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6E2F-41A5-4873-B38D-27246644B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AA1C-8425-4B33-8FD2-54C53DE82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DA0B-21ED-4573-8BE1-08B546995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8E74-17A9-4AEC-87F4-CA86C2D2F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A551-9B35-4148-B78B-542557F69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3EE6-5645-402E-930A-91C326DC9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97FF1-BB26-4D72-9F6B-2A9ABC7362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9FAF6-5436-4688-A70F-9C82137E96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362AA-DC55-4FED-978E-DF1C91E1CB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0EF27-2438-4EBD-A188-C6BFC45D8F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866FD-DB16-4487-B0DC-DDFDAA554E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6528C-4341-4B25-9204-A18B7B9562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C6157-E44B-4967-9EC1-4B9CCA7623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957A0-D5CF-4A1C-A316-9A76C2DA12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6CCC7-89CA-40B2-B0A0-52FCED1400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8744D-76A2-4B3F-A1A0-296E67F60D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88B78-AA73-4064-8567-C210E56FB0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AA1C9-8BE2-4DE0-B23D-72483D70AE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FB18-AF56-46E6-A3AF-6D3CBBE2C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rameter Destruction Resurrection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SCI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al Podd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ember 20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Resurrection of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464840"/>
            <a:ext cx="868680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ever a parameter is destructed, all handles to that parameter are no longer valid and should not be us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rameter can be resurrected by the owner module and can be initialized to a new valu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makes the parameter handle valid again and usage can resu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monstrates that a parameter can be resurrected from the owner module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32080" y="2163600"/>
            <a:ext cx="15825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444960" y="1776240"/>
            <a:ext cx="13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CTO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443160" y="36482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19040" y="4815000"/>
            <a:ext cx="1486440" cy="155160"/>
            <a:chOff x="3119040" y="4815000"/>
            <a:chExt cx="1486440" cy="155160"/>
          </a:xfrm>
        </p:grpSpPr>
        <p:sp>
          <p:nvSpPr>
            <p:cNvPr id="100" name="Rectangle 32"/>
            <p:cNvSpPr/>
            <p:nvPr/>
          </p:nvSpPr>
          <p:spPr>
            <a:xfrm>
              <a:off x="3140280" y="48150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19040" y="49665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27040" y="3741840"/>
            <a:ext cx="15573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2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443160" y="43610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3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Folded Corner 41"/>
          <p:cNvSpPr/>
          <p:nvPr/>
        </p:nvSpPr>
        <p:spPr>
          <a:xfrm>
            <a:off x="3157560" y="1776240"/>
            <a:ext cx="2722680" cy="2970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*int_param_ptr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Folded Corner 42"/>
          <p:cNvSpPr/>
          <p:nvPr/>
        </p:nvSpPr>
        <p:spPr>
          <a:xfrm>
            <a:off x="3205080" y="4452840"/>
            <a:ext cx="1629000" cy="282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int_param_ptr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27"/>
          <p:cNvSpPr/>
          <p:nvPr/>
        </p:nvSpPr>
        <p:spPr>
          <a:xfrm>
            <a:off x="443520" y="27446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1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Folded Corner 42"/>
          <p:cNvSpPr/>
          <p:nvPr/>
        </p:nvSpPr>
        <p:spPr>
          <a:xfrm>
            <a:off x="3230640" y="3581280"/>
            <a:ext cx="336708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_handle.set_cci_value(cci_value(2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Folded Corner 26"/>
          <p:cNvSpPr/>
          <p:nvPr/>
        </p:nvSpPr>
        <p:spPr>
          <a:xfrm>
            <a:off x="1432080" y="3087720"/>
            <a:ext cx="15825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1" name="Straight Arrow Connector 39"/>
          <p:cNvCxnSpPr/>
          <p:nvPr/>
        </p:nvCxnSpPr>
        <p:spPr>
          <a:xfrm flipH="1" flipV="1">
            <a:off x="3118680" y="3978000"/>
            <a:ext cx="3313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Folded Corner 42"/>
          <p:cNvSpPr/>
          <p:nvPr/>
        </p:nvSpPr>
        <p:spPr>
          <a:xfrm>
            <a:off x="3230640" y="2665440"/>
            <a:ext cx="160344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int_param_ptr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" name="Group 35"/>
          <p:cNvGrpSpPr/>
          <p:nvPr/>
        </p:nvGrpSpPr>
        <p:grpSpPr>
          <a:xfrm>
            <a:off x="3119040" y="3079800"/>
            <a:ext cx="1486440" cy="155160"/>
            <a:chOff x="3119040" y="3079800"/>
            <a:chExt cx="1486440" cy="155160"/>
          </a:xfrm>
        </p:grpSpPr>
        <p:sp>
          <p:nvSpPr>
            <p:cNvPr id="114" name="Rectangle 32"/>
            <p:cNvSpPr/>
            <p:nvPr/>
          </p:nvSpPr>
          <p:spPr>
            <a:xfrm>
              <a:off x="3140280" y="30798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5" name="Straight Arrow Connector 34"/>
            <p:cNvCxnSpPr/>
            <p:nvPr/>
          </p:nvCxnSpPr>
          <p:spPr>
            <a:xfrm flipH="1" flipV="1">
              <a:off x="3119040" y="32313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" name="Straight Arrow Connector 16"/>
          <p:cNvCxnSpPr>
            <a:stCxn id="117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0" name="Straight Arrow Connector 17"/>
          <p:cNvCxnSpPr>
            <a:stCxn id="118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" name="TextBox 27"/>
          <p:cNvSpPr/>
          <p:nvPr/>
        </p:nvSpPr>
        <p:spPr>
          <a:xfrm>
            <a:off x="443520" y="17762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5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28"/>
          <p:cNvSpPr/>
          <p:nvPr/>
        </p:nvSpPr>
        <p:spPr>
          <a:xfrm>
            <a:off x="443160" y="36590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9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Folded Corner 42"/>
          <p:cNvSpPr/>
          <p:nvPr/>
        </p:nvSpPr>
        <p:spPr>
          <a:xfrm>
            <a:off x="3287880" y="3716280"/>
            <a:ext cx="1457280" cy="2844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new value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27"/>
          <p:cNvSpPr/>
          <p:nvPr/>
        </p:nvSpPr>
        <p:spPr>
          <a:xfrm>
            <a:off x="443520" y="27446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6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Folded Corner 42"/>
          <p:cNvSpPr/>
          <p:nvPr/>
        </p:nvSpPr>
        <p:spPr>
          <a:xfrm>
            <a:off x="5259240" y="1859040"/>
            <a:ext cx="2627640" cy="4554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rm that the parameter handle of sim_ip.int_param is now inval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Folded Corner 26"/>
          <p:cNvSpPr/>
          <p:nvPr/>
        </p:nvSpPr>
        <p:spPr>
          <a:xfrm>
            <a:off x="1332000" y="3087720"/>
            <a:ext cx="16826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-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Folded Corner 42"/>
          <p:cNvSpPr/>
          <p:nvPr/>
        </p:nvSpPr>
        <p:spPr>
          <a:xfrm>
            <a:off x="3230640" y="2587680"/>
            <a:ext cx="2452680" cy="4334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_ptr = new cci_param&lt;int&gt;("int_param", -10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0" name="Group 35"/>
          <p:cNvGrpSpPr/>
          <p:nvPr/>
        </p:nvGrpSpPr>
        <p:grpSpPr>
          <a:xfrm>
            <a:off x="3119040" y="3079800"/>
            <a:ext cx="1486440" cy="155160"/>
            <a:chOff x="3119040" y="3079800"/>
            <a:chExt cx="1486440" cy="155160"/>
          </a:xfrm>
        </p:grpSpPr>
        <p:sp>
          <p:nvSpPr>
            <p:cNvPr id="131" name="Rectangle 32"/>
            <p:cNvSpPr/>
            <p:nvPr/>
          </p:nvSpPr>
          <p:spPr>
            <a:xfrm>
              <a:off x="3140280" y="30798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32" name="Straight Arrow Connector 34"/>
            <p:cNvCxnSpPr/>
            <p:nvPr/>
          </p:nvCxnSpPr>
          <p:spPr>
            <a:xfrm flipH="1" flipV="1">
              <a:off x="3119040" y="32313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33" name="Folded Corner 42"/>
          <p:cNvSpPr/>
          <p:nvPr/>
        </p:nvSpPr>
        <p:spPr>
          <a:xfrm>
            <a:off x="5259240" y="3413160"/>
            <a:ext cx="2562480" cy="6062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up the sim_ip.int_param handle again and confirm its validity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Straight Arrow Connector 39"/>
          <p:cNvCxnSpPr/>
          <p:nvPr/>
        </p:nvCxnSpPr>
        <p:spPr>
          <a:xfrm flipH="1" flipV="1">
            <a:off x="3118680" y="4071600"/>
            <a:ext cx="3313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5" name="Folded Corner 26"/>
          <p:cNvSpPr/>
          <p:nvPr/>
        </p:nvSpPr>
        <p:spPr>
          <a:xfrm>
            <a:off x="1332000" y="3728880"/>
            <a:ext cx="1657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-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21_Param_Destruction_Resurrection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Ctor: Default value of sim_ip.int_param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Set value of int_param to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Current value of int_param is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Set value of sim_ip.int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@30 ns, execute: Destroy sim_ip.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50 ns, execute: [EXTERNAL] Parameter handle of sim_ip.int_param is no more vali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@60 ns, execute: Resurrect sim_ip.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90 ns, execute: [EXTERNAL] Parameter handle of sim_ip.int_param is valid agai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90 ns, execute: [EXTERNAL] Current value of sim_ip.int_param is 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Dtor: Current value of sim_ip.int_param is 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15:47:40Z</dcterms:modified>
  <cp:revision>170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47:40Z</vt:lpwstr>
  </property>
  <property fmtid="{D5CDD505-2E9C-101B-9397-08002B2CF9AE}" pid="5" name="TitusGUID">
    <vt:lpwstr>ea6cc5ed-1c1b-4aa0-91f1-9c2633a3b32b</vt:lpwstr>
  </property>
</Properties>
</file>