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B4B4DA-8D6F-49B7-AB1B-B6347DA85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7989E-3150-4F56-BD6C-20F59BB165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68A34-E091-467A-AAB2-6DCDBE9EF1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54AFC-79AF-4B0B-8B3F-D3EFEBBF61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5EC23-5ED4-471B-939E-EC14A46F5C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9651B-802E-4992-93BA-A45D9CED51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ECD14-B007-4E1F-8785-30DF9DF534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9107F5-E08C-4324-8C8E-8516C2E2A1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42A96-E533-4E32-8ED7-31DD1F0783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15B71-4584-462C-A504-46ADF25BDF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DE7A5-464F-4F0E-A276-CA47B9EE7F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8FBB77-FA05-4B56-884F-2486DD5683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BD61A-6B60-4ABC-8DFF-DE7A417F96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72F83-6427-48B3-B517-D21AB81A96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4D4AB-3AAF-477F-AF9E-62B6F13248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37E0A-ECBE-4DD1-BCE2-49E5D13338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43719-5940-4839-8413-15F49DF675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0D3B2-A20C-424E-BF13-7FE0C21A64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982DC-849B-473D-863C-A8037E35AF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76AE3-FCC8-498D-93B9-C8E91C531C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C6F09-2CC1-415A-83DB-3F0E945D5C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373B7-2535-4AE4-995D-A3E15B620A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56A86-036B-4367-BEAD-0C056F0719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EC5B9-F09F-40BF-A137-2E4CA6E1210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C6B27-876E-470B-BE2C-F59212C0B31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C2FB3-6F56-4187-B6AD-3DC15A6B04E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8110A-CFB2-4088-9443-EF6E6532AF5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7F098-2819-4F36-9BE2-2D742118E4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36B9C-3FFF-4CEB-9A43-E0EA6CEB1FF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EE3E1-E13F-48AD-8CE5-D3436660C35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3F35B-F2B7-4585-8060-36D2AEF1546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3A711-0C0D-442C-BA6A-786EB1B7B5F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00BF9-9C8E-43EB-BDBB-5F07A651BAE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ACCC9-4118-480B-BAA3-827643A0ED2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15B19-3D1C-42A2-99AE-7EAF7B40B8B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7438A-AE31-45BD-8368-A1B3A3190D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0C3E1-8A17-4032-89D2-7CBF69D3A3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6C7F9-51F4-43A1-8D23-C7185DC23E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2CFA6-F1A9-42D8-99C5-53FA42283C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C636F-6A32-4417-BC64-B68DBAC036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FE8A8-B209-4ECC-B517-E81C87890A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7C46E-49CC-4FB0-A0D0-A63705BBA1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BA7BB-F64D-445B-ADC6-B9F1066134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C1ADFD82-D087-463D-96F6-CC6F1A5A11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uperset Parameter Value Specific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perset Parameter Value Specific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tecting Unconsumed Parameters (R3.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ing in a mod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traight Connector 28"/>
          <p:cNvSpPr/>
          <p:nvPr/>
        </p:nvSpPr>
        <p:spPr>
          <a:xfrm flipH="1">
            <a:off x="2284560" y="4572000"/>
            <a:ext cx="144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angle 33"/>
          <p:cNvSpPr/>
          <p:nvPr/>
        </p:nvSpPr>
        <p:spPr>
          <a:xfrm>
            <a:off x="762120" y="4038480"/>
            <a:ext cx="24382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34"/>
          <p:cNvSpPr/>
          <p:nvPr/>
        </p:nvSpPr>
        <p:spPr>
          <a:xfrm>
            <a:off x="6095880" y="4114800"/>
            <a:ext cx="2667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configurato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7"/>
          <p:cNvSpPr/>
          <p:nvPr/>
        </p:nvSpPr>
        <p:spPr>
          <a:xfrm>
            <a:off x="457200" y="68580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.cpp (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estbench fi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38"/>
          <p:cNvSpPr/>
          <p:nvPr/>
        </p:nvSpPr>
        <p:spPr>
          <a:xfrm>
            <a:off x="533520" y="990720"/>
            <a:ext cx="8001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configuration file approach for assigning preset values to the cci-parameters.  (For further details, see ex17_Specifying_Parameter_Values_via_a_Configuration_File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ectangle 40"/>
          <p:cNvSpPr/>
          <p:nvPr/>
        </p:nvSpPr>
        <p:spPr>
          <a:xfrm>
            <a:off x="2286000" y="2666880"/>
            <a:ext cx="4800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iate the two modules 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WN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A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ul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9" name="Straight Arrow Connector 43"/>
          <p:cNvCxnSpPr>
            <a:stCxn id="188" idx="2"/>
            <a:endCxn id="184" idx="0"/>
          </p:cNvCxnSpPr>
          <p:nvPr/>
        </p:nvCxnSpPr>
        <p:spPr>
          <a:xfrm flipH="1">
            <a:off x="1980360" y="3352320"/>
            <a:ext cx="27061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0" name="Straight Arrow Connector 45"/>
          <p:cNvCxnSpPr>
            <a:stCxn id="188" idx="2"/>
            <a:endCxn id="185" idx="0"/>
          </p:cNvCxnSpPr>
          <p:nvPr/>
        </p:nvCxnSpPr>
        <p:spPr>
          <a:xfrm>
            <a:off x="4686480" y="3352320"/>
            <a:ext cx="27439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1" name="Rectangle 46"/>
          <p:cNvSpPr/>
          <p:nvPr/>
        </p:nvSpPr>
        <p:spPr>
          <a:xfrm>
            <a:off x="152280" y="4800600"/>
            <a:ext cx="4267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iate the cci_parameters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Nam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_param_1;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Valu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Nam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_param_2;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Valu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2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Rectangle 47"/>
          <p:cNvSpPr/>
          <p:nvPr/>
        </p:nvSpPr>
        <p:spPr>
          <a:xfrm>
            <a:off x="6113520" y="4992840"/>
            <a:ext cx="2666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handle for broker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_broker(cci::cci_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Straight Connector 28"/>
          <p:cNvSpPr/>
          <p:nvPr/>
        </p:nvSpPr>
        <p:spPr>
          <a:xfrm flipH="1">
            <a:off x="7237440" y="4572000"/>
            <a:ext cx="144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5"/>
          <p:cNvSpPr/>
          <p:nvPr/>
        </p:nvSpPr>
        <p:spPr>
          <a:xfrm>
            <a:off x="6095880" y="1600200"/>
            <a:ext cx="2819520" cy="1143000"/>
          </a:xfrm>
          <a:prstGeom prst="flowChartDocumen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6629400" y="2666880"/>
            <a:ext cx="163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figuration_Fi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Rectangle 19"/>
          <p:cNvSpPr/>
          <p:nvPr/>
        </p:nvSpPr>
        <p:spPr>
          <a:xfrm>
            <a:off x="590400" y="1827720"/>
            <a:ext cx="451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ci::cnf::cci_configFile_Tool configTool("configFileTool");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figTool.config("Configuration_File.txt")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33"/>
          <p:cNvSpPr/>
          <p:nvPr/>
        </p:nvSpPr>
        <p:spPr>
          <a:xfrm>
            <a:off x="304920" y="914400"/>
            <a:ext cx="24382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configurato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47"/>
          <p:cNvSpPr/>
          <p:nvPr/>
        </p:nvSpPr>
        <p:spPr>
          <a:xfrm>
            <a:off x="4038480" y="2882880"/>
            <a:ext cx="4800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 list of unconsumed preset values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onsumed_parameter_list = m_broker.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_unconsumed_preset_value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2438280" y="2577960"/>
            <a:ext cx="1905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EOE phas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3200400" y="43434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0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Rectangle 17"/>
          <p:cNvSpPr/>
          <p:nvPr/>
        </p:nvSpPr>
        <p:spPr>
          <a:xfrm>
            <a:off x="4038480" y="4572000"/>
            <a:ext cx="4267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 the list of parameter names for which there are unconsumed preset values: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_owner.int_param_3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_owner.int_param_4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Straight Connector 28"/>
          <p:cNvSpPr/>
          <p:nvPr/>
        </p:nvSpPr>
        <p:spPr>
          <a:xfrm flipH="1">
            <a:off x="1523520" y="1676520"/>
            <a:ext cx="180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4038480" y="1447920"/>
            <a:ext cx="51055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_param_handles(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trieve list of all cci-parameters within model.  Store result in a std::vect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_parameter_list =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_broker.get_param_handles(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8_Superset_Parameter_Value_Specification.log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0880" y="1514160"/>
            <a:ext cx="86868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1' to '1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2' to '2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3' to '3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4' to '400‘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List of all parameters in the mod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Parameter Name : param_owner.int_param_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Parameter Name : param_owner.int_param_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List of parameter names with unconsumed preset valu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Unconsumed Parameter Name : param_owner.int_param_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Unconsumed Parameter Name : param_owner.int_param_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5:40:57Z</dcterms:modified>
  <cp:revision>20</cp:revision>
  <dc:subject/>
  <dc:title>ex18_Superset_Parameter_Value_Specifi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40:57Z</vt:lpwstr>
  </property>
  <property fmtid="{D5CDD505-2E9C-101B-9397-08002B2CF9AE}" pid="5" name="TitusGUID">
    <vt:lpwstr>407613b7-d1ea-43f3-af1c-aef363dad956</vt:lpwstr>
  </property>
</Properties>
</file>