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AutoShape 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AutoShape 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AutoShape 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AutoShape 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AutoShape 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AutoShape 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AutoShape 1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AutoShape 1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AutoShape 1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AutoShape 1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AutoShape 1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AutoShape 1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AutoShape 1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AutoShape 1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AutoShape 1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AutoShape 1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Rectangle 20"/>
          <p:cNvSpPr/>
          <p:nvPr/>
        </p:nvSpPr>
        <p:spPr>
          <a:xfrm>
            <a:off x="0" y="0"/>
            <a:ext cx="6669000" cy="992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Freeform 2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Freeform 2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Freeform 2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Freeform 2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Freeform 2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Freeform 2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Freeform 2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Freeform 2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Freeform 3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Freeform 3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Freeform 3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Freeform 3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Freeform 3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Freeform 3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Freeform 3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Freeform 3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Freeform 3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Freeform 3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Freeform 4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Freeform 4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Freeform 4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Freeform 4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Freeform 4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Freeform 4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Freeform 4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Freeform 4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Freeform 4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Freeform 4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Freeform 5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Freeform 51"/>
          <p:cNvSpPr/>
          <p:nvPr/>
        </p:nvSpPr>
        <p:spPr>
          <a:xfrm>
            <a:off x="0" y="0"/>
            <a:ext cx="2889360" cy="496800"/>
          </a:xfrm>
          <a:custGeom>
            <a:avLst/>
            <a:gdLst>
              <a:gd name="textAreaLeft" fmla="*/ 0 w 2889360"/>
              <a:gd name="textAreaRight" fmla="*/ 2889720 w 288936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Freeform 52"/>
          <p:cNvSpPr/>
          <p:nvPr/>
        </p:nvSpPr>
        <p:spPr>
          <a:xfrm>
            <a:off x="3778200" y="0"/>
            <a:ext cx="2889360" cy="496800"/>
          </a:xfrm>
          <a:custGeom>
            <a:avLst/>
            <a:gdLst>
              <a:gd name="textAreaLeft" fmla="*/ 0 w 2889360"/>
              <a:gd name="textAreaRight" fmla="*/ 2889720 w 288936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871560" y="744120"/>
            <a:ext cx="4849920" cy="36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592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Freeform 55"/>
          <p:cNvSpPr/>
          <p:nvPr/>
        </p:nvSpPr>
        <p:spPr>
          <a:xfrm>
            <a:off x="0" y="9429840"/>
            <a:ext cx="2889360" cy="496800"/>
          </a:xfrm>
          <a:custGeom>
            <a:avLst/>
            <a:gdLst>
              <a:gd name="textAreaLeft" fmla="*/ 0 w 2889360"/>
              <a:gd name="textAreaRight" fmla="*/ 2889720 w 288936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Num" idx="3"/>
          </p:nvPr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87CBE8-6CC2-44BC-BFCA-15FF3E2DF3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7C8470-40D2-4ACF-BCF8-A99FD36667F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6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CD7335-AD36-4772-92A8-736AC1DDBBE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7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34AB48-F4E2-452C-8A5E-EB6CEE43716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8" name="AutoShape 3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ECE73E-A306-4255-9D42-6A2E23AE890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6C8EC0-E5C0-4E28-9C56-BB0C0CC26CF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2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70222D-ECDE-45E4-A0CE-EBB619B1A84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3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A3588E-19C7-45CD-9807-85F871EB94D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915FC9-E602-4A52-9A25-D872ACA28BB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A85C9E-92EE-4674-9ED9-8F67023996D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8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22DB7D-09A9-438E-B0C7-62382256F8A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9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0F94AE-5BC0-4F77-9690-E6D051F5061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79BF01-2CBB-42E4-BE4D-65AC01AFAB2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3B47A7-FD23-4D50-B68C-E50806A39CF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4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D8D25A-35C2-44B6-8C25-C9E77EAF1AE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5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35B863-1B84-418D-8B32-E520BC05D62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BE8E9D-3A47-45BF-A81C-4FB41F215F6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F6E276-E506-4CC3-934B-9AD4FF7456B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0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A84187-82AB-44D8-AE68-C0BCC966CDD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1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DE2C86-704A-43A6-A93F-55EA5AD40C8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5AC9C1-B259-4871-B7CD-8644EA9E9D4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1B315D-52B6-4C07-AF6D-4FBCBFD5F1E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6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70E9FB-95F7-45E5-A5D0-6716EBC023D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7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E29AA3-3033-42CF-B05E-EBCBF5774AC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F11F98-5F26-49D7-AB64-A940FCDDCDD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5F55E8-A7FB-4AD8-8DD8-6C77161EE8F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2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ADC2C6-08A8-4F81-AFC3-8AD82D141DD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3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5561CF-666A-4E16-9B6B-2A7467E3FA3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  <p:sp>
        <p:nvSpPr>
          <p:cNvPr id="406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2A5F3F-D338-429F-A701-97214827045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871560" y="744480"/>
            <a:ext cx="4849920" cy="363852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592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AA100D-6F63-43B7-9621-57B35A6E0AA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871560" y="744480"/>
            <a:ext cx="4849920" cy="363852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592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412" name="Slide Number Placeholder 3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2EA346-E613-4959-8338-404B82802ED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25B56-92F7-4CEA-A629-CE47C890B7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02760-E46C-462F-98FC-1B69B9275F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D6053-EAB3-4C78-B236-9B0A63C2B2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48559-657A-49A4-B845-3ECABEA30C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9D578-1BF7-41F9-A692-4EF0175477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C86E68-59DB-4F58-92D3-CB15DFD4E6D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894166-5DB7-4B0D-9150-16FD3D8A4BE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7EB6FA-02BD-4AB3-87AE-6D89CA117B9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DFB695-7820-4B29-B000-F9BBF2D0315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3A43FF-F017-45A7-9269-8E119832576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A1240-5C67-407B-958A-B17C598131F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5D2A6-D66F-4330-AABD-288BD0C607B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E8ED49-7DE3-4327-9BB7-D9F8093B56D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94DBFA-9D33-40C1-A2C7-6A97E8F3398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F768CE-AD5C-426A-8CC8-3962951BA32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3132C-A02F-4A27-AB2B-89A678D49C7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0B9DAF-B024-46B2-8B69-11FD47D5ADE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2FA701-D7AB-4C62-8E59-203B98AFED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F68AB-A8DB-41F3-8D1A-6303540B03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AD6D3-1C79-4366-A399-C2E64F0DB6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7D42E-53C0-43ED-8C87-7330CA2935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B41FC-352B-4507-898F-5DA1DBE7DA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7C668-2D77-427A-AD23-8593E950B5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5B56B-E205-4438-BCD7-887C39CF60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287760"/>
            <a:ext cx="1141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ACF98D-9BFD-458C-B87A-1C153C4474A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760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760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2"/>
          </p:nvPr>
        </p:nvSpPr>
        <p:spPr>
          <a:xfrm>
            <a:off x="228600" y="6288120"/>
            <a:ext cx="11397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fld id="{D419DFAD-4BDA-4BE6-8E82-03942D26912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AutoShape 2"/>
          <p:cNvSpPr/>
          <p:nvPr/>
        </p:nvSpPr>
        <p:spPr>
          <a:xfrm>
            <a:off x="3733920" y="5181480"/>
            <a:ext cx="4572000" cy="1200240"/>
          </a:xfrm>
          <a:prstGeom prst="pi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itstream Charter"/>
              </a:rPr>
              <a:t>P V S Phaneendr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itstream Charter"/>
              </a:rPr>
              <a:t>CircuitSutra Technologies Pvt. Ltd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itstream Charter"/>
              </a:rPr>
              <a:t>Aug 2011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Rectangle 2"/>
          <p:cNvSpPr/>
          <p:nvPr/>
        </p:nvSpPr>
        <p:spPr>
          <a:xfrm>
            <a:off x="507960" y="3359160"/>
            <a:ext cx="833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Searching and Directly Associating Parameters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SystemC CCI WG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AutoShape 2"/>
          <p:cNvSpPr/>
          <p:nvPr/>
        </p:nvSpPr>
        <p:spPr>
          <a:xfrm>
            <a:off x="554040" y="1249200"/>
            <a:ext cx="8072280" cy="3886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Objective of the present example is to demonstrate the following 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696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arameter Searches (R3), and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696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arameter Value Synchronization to address Different Names, Same Intended Meaning (UC9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Title 1"/>
          <p:cNvSpPr/>
          <p:nvPr/>
        </p:nvSpPr>
        <p:spPr>
          <a:xfrm>
            <a:off x="141120" y="46080"/>
            <a:ext cx="889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Searching &amp; Directly Associating Parameter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Group 1"/>
          <p:cNvGrpSpPr/>
          <p:nvPr/>
        </p:nvGrpSpPr>
        <p:grpSpPr>
          <a:xfrm>
            <a:off x="76320" y="2590920"/>
            <a:ext cx="8961480" cy="3549600"/>
            <a:chOff x="76320" y="2590920"/>
            <a:chExt cx="8961480" cy="3549600"/>
          </a:xfrm>
        </p:grpSpPr>
        <p:sp>
          <p:nvSpPr>
            <p:cNvPr id="184" name="AutoShape 3"/>
            <p:cNvSpPr/>
            <p:nvPr/>
          </p:nvSpPr>
          <p:spPr>
            <a:xfrm>
              <a:off x="76320" y="2590920"/>
              <a:ext cx="8961480" cy="294120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5" name="AutoShape 8"/>
            <p:cNvSpPr/>
            <p:nvPr/>
          </p:nvSpPr>
          <p:spPr>
            <a:xfrm>
              <a:off x="3961080" y="5646240"/>
              <a:ext cx="1601640" cy="4942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Top_Module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86" name="AutoShape 23"/>
          <p:cNvSpPr/>
          <p:nvPr/>
        </p:nvSpPr>
        <p:spPr>
          <a:xfrm>
            <a:off x="2666880" y="2719440"/>
            <a:ext cx="3657600" cy="40464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Create two </a:t>
            </a: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parameter_owner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module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87" name="Group 40"/>
          <p:cNvGrpSpPr/>
          <p:nvPr/>
        </p:nvGrpSpPr>
        <p:grpSpPr>
          <a:xfrm>
            <a:off x="2403000" y="1227960"/>
            <a:ext cx="4374720" cy="986760"/>
            <a:chOff x="2403000" y="1227960"/>
            <a:chExt cx="4374720" cy="986760"/>
          </a:xfrm>
        </p:grpSpPr>
        <p:sp>
          <p:nvSpPr>
            <p:cNvPr id="188" name="AutoShape 23"/>
            <p:cNvSpPr/>
            <p:nvPr/>
          </p:nvSpPr>
          <p:spPr>
            <a:xfrm>
              <a:off x="2403000" y="1227960"/>
              <a:ext cx="4374720" cy="52020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Get handles for owner modules’ parameters using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configuration broker 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Bitstream Charter"/>
                </a:rPr>
                <a:t>Name-based Look Up Access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9" name="AutoShape 5"/>
            <p:cNvSpPr/>
            <p:nvPr/>
          </p:nvSpPr>
          <p:spPr>
            <a:xfrm>
              <a:off x="3373200" y="1843200"/>
              <a:ext cx="2361600" cy="3715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90" name="Group 32"/>
          <p:cNvGrpSpPr/>
          <p:nvPr/>
        </p:nvGrpSpPr>
        <p:grpSpPr>
          <a:xfrm>
            <a:off x="304920" y="4429080"/>
            <a:ext cx="4030560" cy="981000"/>
            <a:chOff x="304920" y="4429080"/>
            <a:chExt cx="4030560" cy="981000"/>
          </a:xfrm>
        </p:grpSpPr>
        <p:grpSp>
          <p:nvGrpSpPr>
            <p:cNvPr id="191" name="Group 29"/>
            <p:cNvGrpSpPr/>
            <p:nvPr/>
          </p:nvGrpSpPr>
          <p:grpSpPr>
            <a:xfrm>
              <a:off x="304920" y="4429080"/>
              <a:ext cx="4030560" cy="533520"/>
              <a:chOff x="304920" y="4429080"/>
              <a:chExt cx="4030560" cy="533520"/>
            </a:xfrm>
          </p:grpSpPr>
          <p:sp>
            <p:nvSpPr>
              <p:cNvPr id="192" name="AutoShape 11"/>
              <p:cNvSpPr/>
              <p:nvPr/>
            </p:nvSpPr>
            <p:spPr>
              <a:xfrm>
                <a:off x="304920" y="4429080"/>
                <a:ext cx="4030560" cy="53352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193" name="Group 28"/>
              <p:cNvGrpSpPr/>
              <p:nvPr/>
            </p:nvGrpSpPr>
            <p:grpSpPr>
              <a:xfrm>
                <a:off x="449280" y="4530240"/>
                <a:ext cx="3741840" cy="298800"/>
                <a:chOff x="449280" y="4530240"/>
                <a:chExt cx="3741840" cy="298800"/>
              </a:xfrm>
            </p:grpSpPr>
            <p:sp>
              <p:nvSpPr>
                <p:cNvPr id="194" name="AutoShape 12"/>
                <p:cNvSpPr/>
                <p:nvPr/>
              </p:nvSpPr>
              <p:spPr>
                <a:xfrm>
                  <a:off x="449280" y="4530240"/>
                  <a:ext cx="1989360" cy="29880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k_freq_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195" name="AutoShape 15"/>
                <p:cNvSpPr/>
                <p:nvPr/>
              </p:nvSpPr>
              <p:spPr>
                <a:xfrm>
                  <a:off x="2362320" y="4530240"/>
                  <a:ext cx="1828800" cy="29880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98000"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1000 (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196" name="AutoShape 6"/>
            <p:cNvSpPr/>
            <p:nvPr/>
          </p:nvSpPr>
          <p:spPr>
            <a:xfrm>
              <a:off x="1220760" y="5038560"/>
              <a:ext cx="1827000" cy="3715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1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97" name="Group 2"/>
          <p:cNvGrpSpPr/>
          <p:nvPr/>
        </p:nvGrpSpPr>
        <p:grpSpPr>
          <a:xfrm>
            <a:off x="4419720" y="4429080"/>
            <a:ext cx="4411440" cy="981000"/>
            <a:chOff x="4419720" y="4429080"/>
            <a:chExt cx="4411440" cy="981000"/>
          </a:xfrm>
        </p:grpSpPr>
        <p:grpSp>
          <p:nvGrpSpPr>
            <p:cNvPr id="198" name="Group 31"/>
            <p:cNvGrpSpPr/>
            <p:nvPr/>
          </p:nvGrpSpPr>
          <p:grpSpPr>
            <a:xfrm>
              <a:off x="4419720" y="4429080"/>
              <a:ext cx="4411440" cy="533520"/>
              <a:chOff x="4419720" y="4429080"/>
              <a:chExt cx="4411440" cy="533520"/>
            </a:xfrm>
          </p:grpSpPr>
          <p:sp>
            <p:nvSpPr>
              <p:cNvPr id="199" name="AutoShape 11"/>
              <p:cNvSpPr/>
              <p:nvPr/>
            </p:nvSpPr>
            <p:spPr>
              <a:xfrm>
                <a:off x="4419720" y="4429080"/>
                <a:ext cx="4411440" cy="53352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200" name="Group 30"/>
              <p:cNvGrpSpPr/>
              <p:nvPr/>
            </p:nvGrpSpPr>
            <p:grpSpPr>
              <a:xfrm>
                <a:off x="4556160" y="4505040"/>
                <a:ext cx="4275000" cy="341280"/>
                <a:chOff x="4556160" y="4505040"/>
                <a:chExt cx="4275000" cy="341280"/>
              </a:xfrm>
            </p:grpSpPr>
            <p:sp>
              <p:nvSpPr>
                <p:cNvPr id="201" name="AutoShape 12"/>
                <p:cNvSpPr/>
                <p:nvPr/>
              </p:nvSpPr>
              <p:spPr>
                <a:xfrm>
                  <a:off x="4556160" y="4505040"/>
                  <a:ext cx="2454120" cy="3412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ock_speed_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02" name="AutoShape 15"/>
                <p:cNvSpPr/>
                <p:nvPr/>
              </p:nvSpPr>
              <p:spPr>
                <a:xfrm>
                  <a:off x="6850080" y="4505040"/>
                  <a:ext cx="1981080" cy="3412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2000 (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03" name="AutoShape 6"/>
            <p:cNvSpPr/>
            <p:nvPr/>
          </p:nvSpPr>
          <p:spPr>
            <a:xfrm>
              <a:off x="5716440" y="5038560"/>
              <a:ext cx="1827000" cy="3715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2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04" name="AutoShape 23"/>
          <p:cNvSpPr/>
          <p:nvPr/>
        </p:nvSpPr>
        <p:spPr>
          <a:xfrm>
            <a:off x="1447920" y="3222720"/>
            <a:ext cx="6172200" cy="40464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Instantiate a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param_value_sync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class to synchronize the parameter value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AutoShape 23"/>
          <p:cNvSpPr/>
          <p:nvPr/>
        </p:nvSpPr>
        <p:spPr>
          <a:xfrm>
            <a:off x="1447920" y="3710160"/>
            <a:ext cx="6172200" cy="40464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Sends the list of selected cci_param_handles to the </a:t>
            </a: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param_value_sync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clas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Rectangle 26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Title 1"/>
          <p:cNvSpPr/>
          <p:nvPr/>
        </p:nvSpPr>
        <p:spPr>
          <a:xfrm>
            <a:off x="141120" y="46080"/>
            <a:ext cx="889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Example Illustr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AutoShape 3"/>
          <p:cNvSpPr/>
          <p:nvPr/>
        </p:nvSpPr>
        <p:spPr>
          <a:xfrm>
            <a:off x="109440" y="2435400"/>
            <a:ext cx="8961480" cy="327636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09" name="Group 3"/>
          <p:cNvGrpSpPr/>
          <p:nvPr/>
        </p:nvGrpSpPr>
        <p:grpSpPr>
          <a:xfrm>
            <a:off x="1447920" y="3071880"/>
            <a:ext cx="6400800" cy="1366920"/>
            <a:chOff x="1447920" y="3071880"/>
            <a:chExt cx="6400800" cy="1366920"/>
          </a:xfrm>
        </p:grpSpPr>
        <p:sp>
          <p:nvSpPr>
            <p:cNvPr id="210" name="AutoShape 23"/>
            <p:cNvSpPr/>
            <p:nvPr/>
          </p:nvSpPr>
          <p:spPr>
            <a:xfrm>
              <a:off x="1447920" y="3071880"/>
              <a:ext cx="6400800" cy="99072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1" name="AutoShape 6"/>
            <p:cNvSpPr/>
            <p:nvPr/>
          </p:nvSpPr>
          <p:spPr>
            <a:xfrm>
              <a:off x="3473640" y="4151520"/>
              <a:ext cx="1970640" cy="2872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92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_value_sync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12" name="AutoShape 8"/>
          <p:cNvSpPr/>
          <p:nvPr/>
        </p:nvSpPr>
        <p:spPr>
          <a:xfrm>
            <a:off x="3657600" y="5867280"/>
            <a:ext cx="1601640" cy="22860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65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Top_Modu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13" name="Group 40"/>
          <p:cNvGrpSpPr/>
          <p:nvPr/>
        </p:nvGrpSpPr>
        <p:grpSpPr>
          <a:xfrm>
            <a:off x="1763640" y="1248840"/>
            <a:ext cx="5770800" cy="950400"/>
            <a:chOff x="1763640" y="1248840"/>
            <a:chExt cx="5770800" cy="950400"/>
          </a:xfrm>
        </p:grpSpPr>
        <p:sp>
          <p:nvSpPr>
            <p:cNvPr id="214" name="AutoShape 23"/>
            <p:cNvSpPr/>
            <p:nvPr/>
          </p:nvSpPr>
          <p:spPr>
            <a:xfrm>
              <a:off x="1763640" y="1248840"/>
              <a:ext cx="5770800" cy="52020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 already stored the handles of the owner module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cci_parameters to respective cci_param_handle through the brok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5" name="AutoShape 5"/>
            <p:cNvSpPr/>
            <p:nvPr/>
          </p:nvSpPr>
          <p:spPr>
            <a:xfrm>
              <a:off x="3277080" y="1895040"/>
              <a:ext cx="2362320" cy="30420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16" name="Group 32"/>
          <p:cNvGrpSpPr/>
          <p:nvPr/>
        </p:nvGrpSpPr>
        <p:grpSpPr>
          <a:xfrm>
            <a:off x="304920" y="4581360"/>
            <a:ext cx="4030560" cy="981360"/>
            <a:chOff x="304920" y="4581360"/>
            <a:chExt cx="4030560" cy="981360"/>
          </a:xfrm>
        </p:grpSpPr>
        <p:grpSp>
          <p:nvGrpSpPr>
            <p:cNvPr id="217" name="Group 29"/>
            <p:cNvGrpSpPr/>
            <p:nvPr/>
          </p:nvGrpSpPr>
          <p:grpSpPr>
            <a:xfrm>
              <a:off x="304920" y="4581360"/>
              <a:ext cx="4030560" cy="533520"/>
              <a:chOff x="304920" y="4581360"/>
              <a:chExt cx="4030560" cy="533520"/>
            </a:xfrm>
          </p:grpSpPr>
          <p:sp>
            <p:nvSpPr>
              <p:cNvPr id="218" name="AutoShape 11"/>
              <p:cNvSpPr/>
              <p:nvPr/>
            </p:nvSpPr>
            <p:spPr>
              <a:xfrm>
                <a:off x="304920" y="4581360"/>
                <a:ext cx="4030560" cy="53352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219" name="Group 28"/>
              <p:cNvGrpSpPr/>
              <p:nvPr/>
            </p:nvGrpSpPr>
            <p:grpSpPr>
              <a:xfrm>
                <a:off x="449280" y="4682520"/>
                <a:ext cx="3741840" cy="298800"/>
                <a:chOff x="449280" y="4682520"/>
                <a:chExt cx="3741840" cy="298800"/>
              </a:xfrm>
            </p:grpSpPr>
            <p:sp>
              <p:nvSpPr>
                <p:cNvPr id="220" name="AutoShape 12"/>
                <p:cNvSpPr/>
                <p:nvPr/>
              </p:nvSpPr>
              <p:spPr>
                <a:xfrm>
                  <a:off x="449280" y="4682520"/>
                  <a:ext cx="1989360" cy="29880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k_freq_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21" name="AutoShape 15"/>
                <p:cNvSpPr/>
                <p:nvPr/>
              </p:nvSpPr>
              <p:spPr>
                <a:xfrm>
                  <a:off x="2362320" y="4682520"/>
                  <a:ext cx="1828800" cy="29880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98000"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1000 (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22" name="AutoShape 6"/>
            <p:cNvSpPr/>
            <p:nvPr/>
          </p:nvSpPr>
          <p:spPr>
            <a:xfrm>
              <a:off x="1220760" y="5191200"/>
              <a:ext cx="1827000" cy="3715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1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23" name="Group 2"/>
          <p:cNvGrpSpPr/>
          <p:nvPr/>
        </p:nvGrpSpPr>
        <p:grpSpPr>
          <a:xfrm>
            <a:off x="4419720" y="4581360"/>
            <a:ext cx="4411440" cy="981360"/>
            <a:chOff x="4419720" y="4581360"/>
            <a:chExt cx="4411440" cy="981360"/>
          </a:xfrm>
        </p:grpSpPr>
        <p:grpSp>
          <p:nvGrpSpPr>
            <p:cNvPr id="224" name="Group 31"/>
            <p:cNvGrpSpPr/>
            <p:nvPr/>
          </p:nvGrpSpPr>
          <p:grpSpPr>
            <a:xfrm>
              <a:off x="4419720" y="4581360"/>
              <a:ext cx="4411440" cy="533520"/>
              <a:chOff x="4419720" y="4581360"/>
              <a:chExt cx="4411440" cy="533520"/>
            </a:xfrm>
          </p:grpSpPr>
          <p:sp>
            <p:nvSpPr>
              <p:cNvPr id="225" name="AutoShape 11"/>
              <p:cNvSpPr/>
              <p:nvPr/>
            </p:nvSpPr>
            <p:spPr>
              <a:xfrm>
                <a:off x="4419720" y="4581360"/>
                <a:ext cx="4411440" cy="53352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226" name="Group 30"/>
              <p:cNvGrpSpPr/>
              <p:nvPr/>
            </p:nvGrpSpPr>
            <p:grpSpPr>
              <a:xfrm>
                <a:off x="4556160" y="4657320"/>
                <a:ext cx="4122720" cy="341280"/>
                <a:chOff x="4556160" y="4657320"/>
                <a:chExt cx="4122720" cy="341280"/>
              </a:xfrm>
            </p:grpSpPr>
            <p:sp>
              <p:nvSpPr>
                <p:cNvPr id="227" name="AutoShape 12"/>
                <p:cNvSpPr/>
                <p:nvPr/>
              </p:nvSpPr>
              <p:spPr>
                <a:xfrm>
                  <a:off x="4556160" y="4657320"/>
                  <a:ext cx="2378160" cy="3412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ock_speed_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28" name="AutoShape 15"/>
                <p:cNvSpPr/>
                <p:nvPr/>
              </p:nvSpPr>
              <p:spPr>
                <a:xfrm>
                  <a:off x="6850080" y="4657320"/>
                  <a:ext cx="1828800" cy="3412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6000"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2000 (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29" name="AutoShape 6"/>
            <p:cNvSpPr/>
            <p:nvPr/>
          </p:nvSpPr>
          <p:spPr>
            <a:xfrm>
              <a:off x="5716440" y="5191200"/>
              <a:ext cx="1827000" cy="3715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2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30" name="AutoShape 23"/>
          <p:cNvSpPr/>
          <p:nvPr/>
        </p:nvSpPr>
        <p:spPr>
          <a:xfrm>
            <a:off x="2178720" y="2437560"/>
            <a:ext cx="4786200" cy="45900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lect a list of cci-parameters using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get_param_handle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API using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Name-based Look Up Access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and pass it to the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param_value_sync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1" name="Oval 25"/>
          <p:cNvSpPr/>
          <p:nvPr/>
        </p:nvSpPr>
        <p:spPr>
          <a:xfrm>
            <a:off x="380880" y="4648320"/>
            <a:ext cx="2057400" cy="3808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Oval 26"/>
          <p:cNvSpPr/>
          <p:nvPr/>
        </p:nvSpPr>
        <p:spPr>
          <a:xfrm>
            <a:off x="4495680" y="4648320"/>
            <a:ext cx="2438640" cy="3808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AutoShape 23"/>
          <p:cNvSpPr/>
          <p:nvPr/>
        </p:nvSpPr>
        <p:spPr>
          <a:xfrm>
            <a:off x="3474360" y="3283200"/>
            <a:ext cx="4252680" cy="52020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With one cci-parameter as the reference,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write it’s default value to the other cci-paramete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4" name="AutoShape 23"/>
          <p:cNvSpPr/>
          <p:nvPr/>
        </p:nvSpPr>
        <p:spPr>
          <a:xfrm>
            <a:off x="1676520" y="3209760"/>
            <a:ext cx="1752480" cy="68580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A way to sync startup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values of 2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parameter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5" name="Rectangle 30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Title 1"/>
          <p:cNvSpPr/>
          <p:nvPr/>
        </p:nvSpPr>
        <p:spPr>
          <a:xfrm>
            <a:off x="141120" y="46080"/>
            <a:ext cx="889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Example Illustration 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AutoShape 3"/>
          <p:cNvSpPr/>
          <p:nvPr/>
        </p:nvSpPr>
        <p:spPr>
          <a:xfrm>
            <a:off x="76320" y="2057400"/>
            <a:ext cx="8961480" cy="369900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AutoShape 23"/>
          <p:cNvSpPr/>
          <p:nvPr/>
        </p:nvSpPr>
        <p:spPr>
          <a:xfrm>
            <a:off x="533520" y="2133720"/>
            <a:ext cx="8153280" cy="182880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9" name="AutoShape 8"/>
          <p:cNvSpPr/>
          <p:nvPr/>
        </p:nvSpPr>
        <p:spPr>
          <a:xfrm>
            <a:off x="3960720" y="5872320"/>
            <a:ext cx="1602000" cy="22356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62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Top_Modu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40" name="Group 40"/>
          <p:cNvGrpSpPr/>
          <p:nvPr/>
        </p:nvGrpSpPr>
        <p:grpSpPr>
          <a:xfrm>
            <a:off x="1630440" y="1184040"/>
            <a:ext cx="5731200" cy="749520"/>
            <a:chOff x="1630440" y="1184040"/>
            <a:chExt cx="5731200" cy="749520"/>
          </a:xfrm>
        </p:grpSpPr>
        <p:sp>
          <p:nvSpPr>
            <p:cNvPr id="241" name="AutoShape 5"/>
            <p:cNvSpPr/>
            <p:nvPr/>
          </p:nvSpPr>
          <p:spPr>
            <a:xfrm>
              <a:off x="3237840" y="1556640"/>
              <a:ext cx="2361960" cy="3769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2" name="AutoShape 23"/>
            <p:cNvSpPr/>
            <p:nvPr/>
          </p:nvSpPr>
          <p:spPr>
            <a:xfrm>
              <a:off x="1630440" y="1184040"/>
              <a:ext cx="5731200" cy="30708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 already initialized handles of parameters to by sync’d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43" name="Group 32"/>
          <p:cNvGrpSpPr/>
          <p:nvPr/>
        </p:nvGrpSpPr>
        <p:grpSpPr>
          <a:xfrm>
            <a:off x="304920" y="4572000"/>
            <a:ext cx="4030560" cy="996840"/>
            <a:chOff x="304920" y="4572000"/>
            <a:chExt cx="4030560" cy="996840"/>
          </a:xfrm>
        </p:grpSpPr>
        <p:grpSp>
          <p:nvGrpSpPr>
            <p:cNvPr id="244" name="Group 29"/>
            <p:cNvGrpSpPr/>
            <p:nvPr/>
          </p:nvGrpSpPr>
          <p:grpSpPr>
            <a:xfrm>
              <a:off x="304920" y="4572000"/>
              <a:ext cx="4030560" cy="542160"/>
              <a:chOff x="304920" y="4572000"/>
              <a:chExt cx="4030560" cy="542160"/>
            </a:xfrm>
          </p:grpSpPr>
          <p:sp>
            <p:nvSpPr>
              <p:cNvPr id="245" name="AutoShape 11"/>
              <p:cNvSpPr/>
              <p:nvPr/>
            </p:nvSpPr>
            <p:spPr>
              <a:xfrm>
                <a:off x="304920" y="4572000"/>
                <a:ext cx="4030560" cy="54216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246" name="Group 28"/>
              <p:cNvGrpSpPr/>
              <p:nvPr/>
            </p:nvGrpSpPr>
            <p:grpSpPr>
              <a:xfrm>
                <a:off x="449280" y="4674960"/>
                <a:ext cx="3741840" cy="303480"/>
                <a:chOff x="449280" y="4674960"/>
                <a:chExt cx="3741840" cy="303480"/>
              </a:xfrm>
            </p:grpSpPr>
            <p:sp>
              <p:nvSpPr>
                <p:cNvPr id="247" name="AutoShape 12"/>
                <p:cNvSpPr/>
                <p:nvPr/>
              </p:nvSpPr>
              <p:spPr>
                <a:xfrm>
                  <a:off x="449280" y="4674960"/>
                  <a:ext cx="1989360" cy="3034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k_freq_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48" name="AutoShape 15"/>
                <p:cNvSpPr/>
                <p:nvPr/>
              </p:nvSpPr>
              <p:spPr>
                <a:xfrm>
                  <a:off x="2362320" y="4674960"/>
                  <a:ext cx="1828800" cy="3034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79000"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1000 (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49" name="AutoShape 6"/>
            <p:cNvSpPr/>
            <p:nvPr/>
          </p:nvSpPr>
          <p:spPr>
            <a:xfrm>
              <a:off x="1220760" y="5191560"/>
              <a:ext cx="1827000" cy="3772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7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1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50" name="Group 2"/>
          <p:cNvGrpSpPr/>
          <p:nvPr/>
        </p:nvGrpSpPr>
        <p:grpSpPr>
          <a:xfrm>
            <a:off x="4419720" y="4572000"/>
            <a:ext cx="4411440" cy="996840"/>
            <a:chOff x="4419720" y="4572000"/>
            <a:chExt cx="4411440" cy="996840"/>
          </a:xfrm>
        </p:grpSpPr>
        <p:grpSp>
          <p:nvGrpSpPr>
            <p:cNvPr id="251" name="Group 31"/>
            <p:cNvGrpSpPr/>
            <p:nvPr/>
          </p:nvGrpSpPr>
          <p:grpSpPr>
            <a:xfrm>
              <a:off x="4419720" y="4572000"/>
              <a:ext cx="4411440" cy="542160"/>
              <a:chOff x="4419720" y="4572000"/>
              <a:chExt cx="4411440" cy="542160"/>
            </a:xfrm>
          </p:grpSpPr>
          <p:sp>
            <p:nvSpPr>
              <p:cNvPr id="252" name="AutoShape 11"/>
              <p:cNvSpPr/>
              <p:nvPr/>
            </p:nvSpPr>
            <p:spPr>
              <a:xfrm>
                <a:off x="4419720" y="4572000"/>
                <a:ext cx="4411440" cy="54216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253" name="Group 30"/>
              <p:cNvGrpSpPr/>
              <p:nvPr/>
            </p:nvGrpSpPr>
            <p:grpSpPr>
              <a:xfrm>
                <a:off x="4556160" y="4649400"/>
                <a:ext cx="4275000" cy="347040"/>
                <a:chOff x="4556160" y="4649400"/>
                <a:chExt cx="4275000" cy="347040"/>
              </a:xfrm>
            </p:grpSpPr>
            <p:sp>
              <p:nvSpPr>
                <p:cNvPr id="254" name="AutoShape 12"/>
                <p:cNvSpPr/>
                <p:nvPr/>
              </p:nvSpPr>
              <p:spPr>
                <a:xfrm>
                  <a:off x="4556160" y="4649400"/>
                  <a:ext cx="2378160" cy="34704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ock_speed_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55" name="AutoShape 15"/>
                <p:cNvSpPr/>
                <p:nvPr/>
              </p:nvSpPr>
              <p:spPr>
                <a:xfrm>
                  <a:off x="6850080" y="4649400"/>
                  <a:ext cx="1981080" cy="34704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2000 (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56" name="AutoShape 6"/>
            <p:cNvSpPr/>
            <p:nvPr/>
          </p:nvSpPr>
          <p:spPr>
            <a:xfrm>
              <a:off x="5716440" y="5191560"/>
              <a:ext cx="1827000" cy="3772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7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2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57" name="Oval 25"/>
          <p:cNvSpPr/>
          <p:nvPr/>
        </p:nvSpPr>
        <p:spPr>
          <a:xfrm>
            <a:off x="380880" y="4572000"/>
            <a:ext cx="205740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Oval 26"/>
          <p:cNvSpPr/>
          <p:nvPr/>
        </p:nvSpPr>
        <p:spPr>
          <a:xfrm>
            <a:off x="4495680" y="4572000"/>
            <a:ext cx="235440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9" name="AutoShape 23"/>
          <p:cNvSpPr/>
          <p:nvPr/>
        </p:nvSpPr>
        <p:spPr>
          <a:xfrm>
            <a:off x="722160" y="3275280"/>
            <a:ext cx="7852320" cy="30708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Register ‘post_write’ callbacks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on the selected parameters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k_freq_Hz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and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ock_speed_Hz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0" name="Rectangle 7"/>
          <p:cNvSpPr/>
          <p:nvPr/>
        </p:nvSpPr>
        <p:spPr>
          <a:xfrm>
            <a:off x="677880" y="2368440"/>
            <a:ext cx="78566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chronize values of the parameter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efore BEOE phase begins)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chValues (cci::cci_param_handle  _param_handle_1, cci::cci_param_handle _param_handle_2)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61" name="Curved Connector 10"/>
          <p:cNvCxnSpPr>
            <a:stCxn id="257" idx="0"/>
            <a:endCxn id="258" idx="0"/>
          </p:cNvCxnSpPr>
          <p:nvPr/>
        </p:nvCxnSpPr>
        <p:spPr>
          <a:xfrm flipH="1" rot="16200000">
            <a:off x="3540960" y="2427840"/>
            <a:ext cx="2160" cy="4264560"/>
          </a:xfrm>
          <a:prstGeom prst="curvedConnector5">
            <a:avLst>
              <a:gd name="adj1" fmla="val -13600000"/>
              <a:gd name="adj2" fmla="val 49995"/>
              <a:gd name="adj3" fmla="val -13600000"/>
            </a:avLst>
          </a:prstGeom>
          <a:ln w="19080">
            <a:solidFill>
              <a:srgbClr val="00b050"/>
            </a:solidFill>
            <a:prstDash val="sysDash"/>
            <a:miter/>
            <a:headEnd len="lg" type="triangle" w="lg"/>
            <a:tailEnd len="lg" type="triangle" w="lg"/>
          </a:ln>
        </p:spPr>
      </p:cxnSp>
      <p:sp>
        <p:nvSpPr>
          <p:cNvPr id="262" name="AutoShape 6"/>
          <p:cNvSpPr/>
          <p:nvPr/>
        </p:nvSpPr>
        <p:spPr>
          <a:xfrm>
            <a:off x="3735360" y="4105440"/>
            <a:ext cx="1827360" cy="16164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33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param_value_sync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63" name="Curved Connector 10"/>
          <p:cNvCxnSpPr>
            <a:stCxn id="264" idx="4"/>
            <a:endCxn id="248" idx="2"/>
          </p:cNvCxnSpPr>
          <p:nvPr/>
        </p:nvCxnSpPr>
        <p:spPr>
          <a:xfrm flipV="1" rot="16200000">
            <a:off x="5511600" y="2742480"/>
            <a:ext cx="64080" cy="4534560"/>
          </a:xfrm>
          <a:prstGeom prst="curvedConnector5">
            <a:avLst>
              <a:gd name="adj1" fmla="val -339548"/>
              <a:gd name="adj2" fmla="val 49996"/>
              <a:gd name="adj3" fmla="val -339548"/>
            </a:avLst>
          </a:prstGeom>
          <a:ln w="19080">
            <a:solidFill>
              <a:srgbClr val="00b050"/>
            </a:solidFill>
            <a:prstDash val="sysDash"/>
            <a:miter/>
            <a:headEnd len="lg" type="triangle" w="lg"/>
          </a:ln>
        </p:spPr>
      </p:cxnSp>
      <p:grpSp>
        <p:nvGrpSpPr>
          <p:cNvPr id="265" name="Group 33"/>
          <p:cNvGrpSpPr/>
          <p:nvPr/>
        </p:nvGrpSpPr>
        <p:grpSpPr>
          <a:xfrm>
            <a:off x="6934320" y="4572000"/>
            <a:ext cx="1828800" cy="457200"/>
            <a:chOff x="6934320" y="4572000"/>
            <a:chExt cx="1828800" cy="457200"/>
          </a:xfrm>
        </p:grpSpPr>
        <p:sp>
          <p:nvSpPr>
            <p:cNvPr id="266" name="AutoShape 15"/>
            <p:cNvSpPr/>
            <p:nvPr/>
          </p:nvSpPr>
          <p:spPr>
            <a:xfrm>
              <a:off x="6934320" y="4647960"/>
              <a:ext cx="1828800" cy="30348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1000 (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64" name="Oval 45"/>
            <p:cNvSpPr/>
            <p:nvPr/>
          </p:nvSpPr>
          <p:spPr>
            <a:xfrm>
              <a:off x="6934320" y="4572000"/>
              <a:ext cx="1752480" cy="457200"/>
            </a:xfrm>
            <a:prstGeom prst="ellipse">
              <a:avLst/>
            </a:prstGeom>
            <a:noFill/>
            <a:ln w="255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67" name="Rectangle 34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8" name="Title 1"/>
          <p:cNvSpPr/>
          <p:nvPr/>
        </p:nvSpPr>
        <p:spPr>
          <a:xfrm>
            <a:off x="141120" y="46080"/>
            <a:ext cx="889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Example Illustration 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9" name="Group 49"/>
          <p:cNvGrpSpPr/>
          <p:nvPr/>
        </p:nvGrpSpPr>
        <p:grpSpPr>
          <a:xfrm>
            <a:off x="76320" y="3276720"/>
            <a:ext cx="8961480" cy="2574720"/>
            <a:chOff x="76320" y="3276720"/>
            <a:chExt cx="8961480" cy="2574720"/>
          </a:xfrm>
        </p:grpSpPr>
        <p:grpSp>
          <p:nvGrpSpPr>
            <p:cNvPr id="270" name="Group 48"/>
            <p:cNvGrpSpPr/>
            <p:nvPr/>
          </p:nvGrpSpPr>
          <p:grpSpPr>
            <a:xfrm>
              <a:off x="76320" y="3276720"/>
              <a:ext cx="8961480" cy="2574720"/>
              <a:chOff x="76320" y="3276720"/>
              <a:chExt cx="8961480" cy="2574720"/>
            </a:xfrm>
          </p:grpSpPr>
          <p:grpSp>
            <p:nvGrpSpPr>
              <p:cNvPr id="271" name="Group 47"/>
              <p:cNvGrpSpPr/>
              <p:nvPr/>
            </p:nvGrpSpPr>
            <p:grpSpPr>
              <a:xfrm>
                <a:off x="76320" y="3276720"/>
                <a:ext cx="8961480" cy="2574720"/>
                <a:chOff x="76320" y="3276720"/>
                <a:chExt cx="8961480" cy="2574720"/>
              </a:xfrm>
            </p:grpSpPr>
            <p:grpSp>
              <p:nvGrpSpPr>
                <p:cNvPr id="272" name="Group 46"/>
                <p:cNvGrpSpPr/>
                <p:nvPr/>
              </p:nvGrpSpPr>
              <p:grpSpPr>
                <a:xfrm>
                  <a:off x="76320" y="3276720"/>
                  <a:ext cx="8961480" cy="2574720"/>
                  <a:chOff x="76320" y="3276720"/>
                  <a:chExt cx="8961480" cy="2574720"/>
                </a:xfrm>
              </p:grpSpPr>
              <p:grpSp>
                <p:nvGrpSpPr>
                  <p:cNvPr id="273" name="Group 5"/>
                  <p:cNvGrpSpPr/>
                  <p:nvPr/>
                </p:nvGrpSpPr>
                <p:grpSpPr>
                  <a:xfrm>
                    <a:off x="76320" y="3276720"/>
                    <a:ext cx="8961480" cy="2574720"/>
                    <a:chOff x="76320" y="3276720"/>
                    <a:chExt cx="8961480" cy="2574720"/>
                  </a:xfrm>
                </p:grpSpPr>
                <p:grpSp>
                  <p:nvGrpSpPr>
                    <p:cNvPr id="274" name="Group 1"/>
                    <p:cNvGrpSpPr/>
                    <p:nvPr/>
                  </p:nvGrpSpPr>
                  <p:grpSpPr>
                    <a:xfrm>
                      <a:off x="76320" y="3276720"/>
                      <a:ext cx="8961480" cy="2574720"/>
                      <a:chOff x="76320" y="3276720"/>
                      <a:chExt cx="8961480" cy="2574720"/>
                    </a:xfrm>
                  </p:grpSpPr>
                  <p:sp>
                    <p:nvSpPr>
                      <p:cNvPr id="275" name="AutoShape 3"/>
                      <p:cNvSpPr/>
                      <p:nvPr/>
                    </p:nvSpPr>
                    <p:spPr>
                      <a:xfrm>
                        <a:off x="76320" y="3276720"/>
                        <a:ext cx="8961480" cy="2041560"/>
                      </a:xfrm>
                      <a:prstGeom prst="roundRect">
                        <a:avLst>
                          <a:gd name="adj" fmla="val 134"/>
                        </a:avLst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276" name="AutoShape 8"/>
                      <p:cNvSpPr/>
                      <p:nvPr/>
                    </p:nvSpPr>
                    <p:spPr>
                      <a:xfrm>
                        <a:off x="3961080" y="5341320"/>
                        <a:ext cx="1601640" cy="510120"/>
                      </a:xfrm>
                      <a:prstGeom prst="roundRect">
                        <a:avLst>
                          <a:gd name="adj" fmla="val 426"/>
                        </a:avLst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5000" bIns="45000" anchor="ctr" anchorCtr="1">
                        <a:norm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  <a:tab algn="l" pos="9601200"/>
                            <a:tab algn="l" pos="10058400"/>
                            <a:tab algn="l" pos="10515600"/>
                          </a:tabLst>
                        </a:pPr>
                        <a:r>
                          <a:rPr b="1" lang="en-US" sz="1400" spc="-1" strike="noStrike">
                            <a:solidFill>
                              <a:srgbClr val="000000"/>
                            </a:solidFill>
                            <a:latin typeface="Bitstream Charter"/>
                          </a:rPr>
                          <a:t>Top_Module</a:t>
                        </a:r>
                        <a:endParaRPr b="0" lang="en-US" sz="1400" spc="-1" strike="noStrike">
                          <a:solidFill>
                            <a:srgbClr val="ffffff"/>
                          </a:solidFill>
                          <a:latin typeface="Calibri"/>
                        </a:endParaRPr>
                      </a:p>
                    </p:txBody>
                  </p:sp>
                </p:grpSp>
                <p:grpSp>
                  <p:nvGrpSpPr>
                    <p:cNvPr id="277" name="Group 32"/>
                    <p:cNvGrpSpPr/>
                    <p:nvPr/>
                  </p:nvGrpSpPr>
                  <p:grpSpPr>
                    <a:xfrm>
                      <a:off x="304920" y="4070520"/>
                      <a:ext cx="4030560" cy="963360"/>
                      <a:chOff x="304920" y="4070520"/>
                      <a:chExt cx="4030560" cy="963360"/>
                    </a:xfrm>
                  </p:grpSpPr>
                  <p:grpSp>
                    <p:nvGrpSpPr>
                      <p:cNvPr id="278" name="Group 29"/>
                      <p:cNvGrpSpPr/>
                      <p:nvPr/>
                    </p:nvGrpSpPr>
                    <p:grpSpPr>
                      <a:xfrm>
                        <a:off x="304920" y="4070520"/>
                        <a:ext cx="4030560" cy="523800"/>
                        <a:chOff x="304920" y="4070520"/>
                        <a:chExt cx="4030560" cy="523800"/>
                      </a:xfrm>
                    </p:grpSpPr>
                    <p:sp>
                      <p:nvSpPr>
                        <p:cNvPr id="279" name="AutoShape 11"/>
                        <p:cNvSpPr/>
                        <p:nvPr/>
                      </p:nvSpPr>
                      <p:spPr>
                        <a:xfrm>
                          <a:off x="304920" y="4070520"/>
                          <a:ext cx="4030560" cy="523800"/>
                        </a:xfrm>
                        <a:prstGeom prst="roundRect">
                          <a:avLst>
                            <a:gd name="adj" fmla="val 120"/>
                          </a:avLst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  <p:grpSp>
                      <p:nvGrpSpPr>
                        <p:cNvPr id="280" name="Group 28"/>
                        <p:cNvGrpSpPr/>
                        <p:nvPr/>
                      </p:nvGrpSpPr>
                      <p:grpSpPr>
                        <a:xfrm>
                          <a:off x="449280" y="4169880"/>
                          <a:ext cx="3741840" cy="293400"/>
                          <a:chOff x="449280" y="4169880"/>
                          <a:chExt cx="3741840" cy="293400"/>
                        </a:xfrm>
                      </p:grpSpPr>
                      <p:sp>
                        <p:nvSpPr>
                          <p:cNvPr id="281" name="AutoShape 12"/>
                          <p:cNvSpPr/>
                          <p:nvPr/>
                        </p:nvSpPr>
                        <p:spPr>
                          <a:xfrm>
                            <a:off x="449280" y="4169880"/>
                            <a:ext cx="1989360" cy="293400"/>
                          </a:xfrm>
                          <a:prstGeom prst="roundRect">
                            <a:avLst>
                              <a:gd name="adj" fmla="val 463"/>
                            </a:avLst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5000" bIns="45000" anchor="ctr" anchorCtr="1">
                            <a:norm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457200"/>
                                <a:tab algn="l" pos="914400"/>
                                <a:tab algn="l" pos="1371600"/>
                                <a:tab algn="l" pos="1828800"/>
                                <a:tab algn="l" pos="2286000"/>
                                <a:tab algn="l" pos="2743200"/>
                                <a:tab algn="l" pos="3200400"/>
                                <a:tab algn="l" pos="3657600"/>
                                <a:tab algn="l" pos="4114800"/>
                                <a:tab algn="l" pos="4572000"/>
                                <a:tab algn="l" pos="5029200"/>
                                <a:tab algn="l" pos="5486400"/>
                                <a:tab algn="l" pos="5943600"/>
                                <a:tab algn="l" pos="6400800"/>
                                <a:tab algn="l" pos="6858000"/>
                                <a:tab algn="l" pos="7315200"/>
                                <a:tab algn="l" pos="7772400"/>
                                <a:tab algn="l" pos="8229600"/>
                                <a:tab algn="l" pos="8686800"/>
                                <a:tab algn="l" pos="9144000"/>
                                <a:tab algn="l" pos="9601200"/>
                                <a:tab algn="l" pos="10058400"/>
                                <a:tab algn="l" pos="10515600"/>
                              </a:tabLst>
                            </a:pPr>
                            <a:r>
                              <a:rPr b="1" lang="en-US" sz="1100" spc="-1" strike="noStrike">
                                <a:solidFill>
                                  <a:srgbClr val="000000"/>
                                </a:solidFill>
                                <a:latin typeface="Bitstream Charter"/>
                                <a:ea typeface="Arial"/>
                              </a:rPr>
                              <a:t>Param_Name :</a:t>
                            </a:r>
                            <a:r>
                              <a:rPr b="0" lang="en-US" sz="1100" spc="-1" strike="noStrike">
                                <a:solidFill>
                                  <a:srgbClr val="000000"/>
                                </a:solidFill>
                                <a:latin typeface="Bitstream Charter"/>
                                <a:ea typeface="Arial"/>
                              </a:rPr>
                              <a:t> clk_freq_Hz</a:t>
                            </a:r>
                            <a:endParaRPr b="0" lang="en-US" sz="1100" spc="-1" strike="noStrike">
                              <a:solidFill>
                                <a:srgbClr val="ffffff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282" name="AutoShape 15"/>
                          <p:cNvSpPr/>
                          <p:nvPr/>
                        </p:nvSpPr>
                        <p:spPr>
                          <a:xfrm>
                            <a:off x="2362320" y="4169880"/>
                            <a:ext cx="1828800" cy="293400"/>
                          </a:xfrm>
                          <a:prstGeom prst="roundRect">
                            <a:avLst>
                              <a:gd name="adj" fmla="val 463"/>
                            </a:avLst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5000" bIns="45000" anchor="ctr" anchorCtr="1">
                            <a:normAutofit fontScale="96000"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457200"/>
                                <a:tab algn="l" pos="914400"/>
                                <a:tab algn="l" pos="1371600"/>
                                <a:tab algn="l" pos="1828800"/>
                                <a:tab algn="l" pos="2286000"/>
                                <a:tab algn="l" pos="2743200"/>
                                <a:tab algn="l" pos="3200400"/>
                                <a:tab algn="l" pos="3657600"/>
                                <a:tab algn="l" pos="4114800"/>
                                <a:tab algn="l" pos="4572000"/>
                                <a:tab algn="l" pos="5029200"/>
                                <a:tab algn="l" pos="5486400"/>
                                <a:tab algn="l" pos="5943600"/>
                                <a:tab algn="l" pos="6400800"/>
                                <a:tab algn="l" pos="6858000"/>
                                <a:tab algn="l" pos="7315200"/>
                                <a:tab algn="l" pos="7772400"/>
                                <a:tab algn="l" pos="8229600"/>
                                <a:tab algn="l" pos="8686800"/>
                                <a:tab algn="l" pos="9144000"/>
                                <a:tab algn="l" pos="9601200"/>
                                <a:tab algn="l" pos="10058400"/>
                                <a:tab algn="l" pos="10515600"/>
                              </a:tabLst>
                            </a:pPr>
                            <a:r>
                              <a:rPr b="1" lang="en-US" sz="1100" spc="-1" strike="noStrike">
                                <a:solidFill>
                                  <a:srgbClr val="000000"/>
                                </a:solidFill>
                                <a:latin typeface="Bitstream Charter"/>
                              </a:rPr>
                              <a:t>Default Value :</a:t>
                            </a:r>
                            <a:r>
                              <a:rPr b="0" lang="en-US" sz="1100" spc="-1" strike="noStrike">
                                <a:solidFill>
                                  <a:srgbClr val="000000"/>
                                </a:solidFill>
                                <a:latin typeface="Bitstream Charter"/>
                              </a:rPr>
                              <a:t> 1000 (Hz)</a:t>
                            </a:r>
                            <a:endParaRPr b="0" lang="en-US" sz="1100" spc="-1" strike="noStrike">
                              <a:solidFill>
                                <a:srgbClr val="ffffff"/>
                              </a:solidFill>
                              <a:latin typeface="Calibri"/>
                            </a:endParaRPr>
                          </a:p>
                        </p:txBody>
                      </p:sp>
                    </p:grpSp>
                  </p:grpSp>
                  <p:sp>
                    <p:nvSpPr>
                      <p:cNvPr id="283" name="AutoShape 6"/>
                      <p:cNvSpPr/>
                      <p:nvPr/>
                    </p:nvSpPr>
                    <p:spPr>
                      <a:xfrm>
                        <a:off x="1220760" y="4669200"/>
                        <a:ext cx="1827000" cy="364680"/>
                      </a:xfrm>
                      <a:prstGeom prst="roundRect">
                        <a:avLst>
                          <a:gd name="adj" fmla="val 426"/>
                        </a:avLst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5000" bIns="45000" anchor="ctr" anchorCtr="1">
                        <a:normAutofit fontScale="64000"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  <a:tab algn="l" pos="9601200"/>
                            <a:tab algn="l" pos="10058400"/>
                            <a:tab algn="l" pos="10515600"/>
                          </a:tabLst>
                        </a:pPr>
                        <a:r>
                          <a:rPr b="1" lang="en-US" sz="1400" spc="-1" strike="noStrike">
                            <a:solidFill>
                              <a:srgbClr val="000000"/>
                            </a:solidFill>
                            <a:latin typeface="Bitstream Charter"/>
                          </a:rPr>
                          <a:t>Instance#1</a:t>
                        </a:r>
                        <a:br>
                          <a:rPr sz="1400"/>
                        </a:br>
                        <a:r>
                          <a:rPr b="1" lang="en-US" sz="1400" spc="-1" strike="noStrike">
                            <a:solidFill>
                              <a:srgbClr val="000000"/>
                            </a:solidFill>
                            <a:latin typeface="Bitstream Charter"/>
                          </a:rPr>
                          <a:t>Parameter_Owner</a:t>
                        </a:r>
                        <a:endParaRPr b="0" lang="en-US" sz="1400" spc="-1" strike="noStrike">
                          <a:solidFill>
                            <a:srgbClr val="ffffff"/>
                          </a:solidFill>
                          <a:latin typeface="Calibri"/>
                        </a:endParaRPr>
                      </a:p>
                    </p:txBody>
                  </p:sp>
                </p:grpSp>
                <p:grpSp>
                  <p:nvGrpSpPr>
                    <p:cNvPr id="284" name="Group 2"/>
                    <p:cNvGrpSpPr/>
                    <p:nvPr/>
                  </p:nvGrpSpPr>
                  <p:grpSpPr>
                    <a:xfrm>
                      <a:off x="4419720" y="4070520"/>
                      <a:ext cx="4411440" cy="963360"/>
                      <a:chOff x="4419720" y="4070520"/>
                      <a:chExt cx="4411440" cy="963360"/>
                    </a:xfrm>
                  </p:grpSpPr>
                  <p:grpSp>
                    <p:nvGrpSpPr>
                      <p:cNvPr id="285" name="Group 31"/>
                      <p:cNvGrpSpPr/>
                      <p:nvPr/>
                    </p:nvGrpSpPr>
                    <p:grpSpPr>
                      <a:xfrm>
                        <a:off x="4419720" y="4070520"/>
                        <a:ext cx="4411440" cy="523800"/>
                        <a:chOff x="4419720" y="4070520"/>
                        <a:chExt cx="4411440" cy="523800"/>
                      </a:xfrm>
                    </p:grpSpPr>
                    <p:sp>
                      <p:nvSpPr>
                        <p:cNvPr id="286" name="AutoShape 11"/>
                        <p:cNvSpPr/>
                        <p:nvPr/>
                      </p:nvSpPr>
                      <p:spPr>
                        <a:xfrm>
                          <a:off x="4419720" y="4070520"/>
                          <a:ext cx="4411440" cy="523800"/>
                        </a:xfrm>
                        <a:prstGeom prst="roundRect">
                          <a:avLst>
                            <a:gd name="adj" fmla="val 120"/>
                          </a:avLst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  <p:grpSp>
                      <p:nvGrpSpPr>
                        <p:cNvPr id="287" name="Group 30"/>
                        <p:cNvGrpSpPr/>
                        <p:nvPr/>
                      </p:nvGrpSpPr>
                      <p:grpSpPr>
                        <a:xfrm>
                          <a:off x="4556160" y="4145040"/>
                          <a:ext cx="4275000" cy="335160"/>
                          <a:chOff x="4556160" y="4145040"/>
                          <a:chExt cx="4275000" cy="335160"/>
                        </a:xfrm>
                      </p:grpSpPr>
                      <p:sp>
                        <p:nvSpPr>
                          <p:cNvPr id="288" name="AutoShape 12"/>
                          <p:cNvSpPr/>
                          <p:nvPr/>
                        </p:nvSpPr>
                        <p:spPr>
                          <a:xfrm>
                            <a:off x="4556160" y="4145040"/>
                            <a:ext cx="2378160" cy="335160"/>
                          </a:xfrm>
                          <a:prstGeom prst="roundRect">
                            <a:avLst>
                              <a:gd name="adj" fmla="val 463"/>
                            </a:avLst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5000" bIns="45000" anchor="ctr" anchorCtr="1">
                            <a:norm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457200"/>
                                <a:tab algn="l" pos="914400"/>
                                <a:tab algn="l" pos="1371600"/>
                                <a:tab algn="l" pos="1828800"/>
                                <a:tab algn="l" pos="2286000"/>
                                <a:tab algn="l" pos="2743200"/>
                                <a:tab algn="l" pos="3200400"/>
                                <a:tab algn="l" pos="3657600"/>
                                <a:tab algn="l" pos="4114800"/>
                                <a:tab algn="l" pos="4572000"/>
                                <a:tab algn="l" pos="5029200"/>
                                <a:tab algn="l" pos="5486400"/>
                                <a:tab algn="l" pos="5943600"/>
                                <a:tab algn="l" pos="6400800"/>
                                <a:tab algn="l" pos="6858000"/>
                                <a:tab algn="l" pos="7315200"/>
                                <a:tab algn="l" pos="7772400"/>
                                <a:tab algn="l" pos="8229600"/>
                                <a:tab algn="l" pos="8686800"/>
                                <a:tab algn="l" pos="9144000"/>
                                <a:tab algn="l" pos="9601200"/>
                                <a:tab algn="l" pos="10058400"/>
                                <a:tab algn="l" pos="10515600"/>
                              </a:tabLst>
                            </a:pPr>
                            <a:r>
                              <a:rPr b="1" lang="en-US" sz="1100" spc="-1" strike="noStrike">
                                <a:solidFill>
                                  <a:srgbClr val="000000"/>
                                </a:solidFill>
                                <a:latin typeface="Bitstream Charter"/>
                                <a:ea typeface="Arial"/>
                              </a:rPr>
                              <a:t>Param_Name :</a:t>
                            </a:r>
                            <a:r>
                              <a:rPr b="0" lang="en-US" sz="1100" spc="-1" strike="noStrike">
                                <a:solidFill>
                                  <a:srgbClr val="000000"/>
                                </a:solidFill>
                                <a:latin typeface="Bitstream Charter"/>
                                <a:ea typeface="Arial"/>
                              </a:rPr>
                              <a:t> clock_speed_Hz</a:t>
                            </a:r>
                            <a:endParaRPr b="0" lang="en-US" sz="1100" spc="-1" strike="noStrike">
                              <a:solidFill>
                                <a:srgbClr val="ffffff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289" name="AutoShape 15"/>
                          <p:cNvSpPr/>
                          <p:nvPr/>
                        </p:nvSpPr>
                        <p:spPr>
                          <a:xfrm>
                            <a:off x="6850080" y="4145040"/>
                            <a:ext cx="1981080" cy="335160"/>
                          </a:xfrm>
                          <a:prstGeom prst="roundRect">
                            <a:avLst>
                              <a:gd name="adj" fmla="val 463"/>
                            </a:avLst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5000" bIns="45000" anchor="ctr" anchorCtr="1">
                            <a:norm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457200"/>
                                <a:tab algn="l" pos="914400"/>
                                <a:tab algn="l" pos="1371600"/>
                                <a:tab algn="l" pos="1828800"/>
                                <a:tab algn="l" pos="2286000"/>
                                <a:tab algn="l" pos="2743200"/>
                                <a:tab algn="l" pos="3200400"/>
                                <a:tab algn="l" pos="3657600"/>
                                <a:tab algn="l" pos="4114800"/>
                                <a:tab algn="l" pos="4572000"/>
                                <a:tab algn="l" pos="5029200"/>
                                <a:tab algn="l" pos="5486400"/>
                                <a:tab algn="l" pos="5943600"/>
                                <a:tab algn="l" pos="6400800"/>
                                <a:tab algn="l" pos="6858000"/>
                                <a:tab algn="l" pos="7315200"/>
                                <a:tab algn="l" pos="7772400"/>
                                <a:tab algn="l" pos="8229600"/>
                                <a:tab algn="l" pos="8686800"/>
                                <a:tab algn="l" pos="9144000"/>
                                <a:tab algn="l" pos="9601200"/>
                                <a:tab algn="l" pos="10058400"/>
                                <a:tab algn="l" pos="10515600"/>
                              </a:tabLst>
                            </a:pPr>
                            <a:r>
                              <a:rPr b="1" lang="en-US" sz="1100" spc="-1" strike="noStrike">
                                <a:solidFill>
                                  <a:srgbClr val="000000"/>
                                </a:solidFill>
                                <a:latin typeface="Bitstream Charter"/>
                              </a:rPr>
                              <a:t>Default Value :</a:t>
                            </a:r>
                            <a:r>
                              <a:rPr b="0" lang="en-US" sz="1100" spc="-1" strike="noStrike">
                                <a:solidFill>
                                  <a:srgbClr val="000000"/>
                                </a:solidFill>
                                <a:latin typeface="Bitstream Charter"/>
                              </a:rPr>
                              <a:t> 2 (KHz)</a:t>
                            </a:r>
                            <a:endParaRPr b="0" lang="en-US" sz="1100" spc="-1" strike="noStrike">
                              <a:solidFill>
                                <a:srgbClr val="ffffff"/>
                              </a:solidFill>
                              <a:latin typeface="Calibri"/>
                            </a:endParaRPr>
                          </a:p>
                        </p:txBody>
                      </p:sp>
                    </p:grpSp>
                  </p:grpSp>
                  <p:sp>
                    <p:nvSpPr>
                      <p:cNvPr id="290" name="AutoShape 6"/>
                      <p:cNvSpPr/>
                      <p:nvPr/>
                    </p:nvSpPr>
                    <p:spPr>
                      <a:xfrm>
                        <a:off x="5716440" y="4669200"/>
                        <a:ext cx="1827000" cy="364680"/>
                      </a:xfrm>
                      <a:prstGeom prst="roundRect">
                        <a:avLst>
                          <a:gd name="adj" fmla="val 426"/>
                        </a:avLst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5000" bIns="45000" anchor="ctr" anchorCtr="1">
                        <a:normAutofit fontScale="64000"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  <a:tab algn="l" pos="9601200"/>
                            <a:tab algn="l" pos="10058400"/>
                            <a:tab algn="l" pos="10515600"/>
                          </a:tabLst>
                        </a:pPr>
                        <a:r>
                          <a:rPr b="1" lang="en-US" sz="1400" spc="-1" strike="noStrike">
                            <a:solidFill>
                              <a:srgbClr val="000000"/>
                            </a:solidFill>
                            <a:latin typeface="Bitstream Charter"/>
                          </a:rPr>
                          <a:t>Instance#2</a:t>
                        </a:r>
                        <a:br>
                          <a:rPr sz="1400"/>
                        </a:br>
                        <a:r>
                          <a:rPr b="1" lang="en-US" sz="1400" spc="-1" strike="noStrike">
                            <a:solidFill>
                              <a:srgbClr val="000000"/>
                            </a:solidFill>
                            <a:latin typeface="Bitstream Charter"/>
                          </a:rPr>
                          <a:t>Parameter_Owner</a:t>
                        </a:r>
                        <a:endParaRPr b="0" lang="en-US" sz="1400" spc="-1" strike="noStrike">
                          <a:solidFill>
                            <a:srgbClr val="ffffff"/>
                          </a:solidFill>
                          <a:latin typeface="Calibri"/>
                        </a:endParaRPr>
                      </a:p>
                    </p:txBody>
                  </p:sp>
                </p:grpSp>
              </p:grpSp>
              <p:sp>
                <p:nvSpPr>
                  <p:cNvPr id="291" name="Oval 26"/>
                  <p:cNvSpPr/>
                  <p:nvPr/>
                </p:nvSpPr>
                <p:spPr>
                  <a:xfrm>
                    <a:off x="4495680" y="4130640"/>
                    <a:ext cx="2354400" cy="365040"/>
                  </a:xfrm>
                  <a:prstGeom prst="ellipse">
                    <a:avLst/>
                  </a:prstGeom>
                  <a:noFill/>
                  <a:ln w="255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292" name="AutoShape 15"/>
                <p:cNvSpPr/>
                <p:nvPr/>
              </p:nvSpPr>
              <p:spPr>
                <a:xfrm>
                  <a:off x="7010280" y="4191120"/>
                  <a:ext cx="1676520" cy="30312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Old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1000 (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293" name="Oval 25"/>
              <p:cNvSpPr/>
              <p:nvPr/>
            </p:nvSpPr>
            <p:spPr>
              <a:xfrm>
                <a:off x="380880" y="4100400"/>
                <a:ext cx="2057400" cy="441360"/>
              </a:xfrm>
              <a:prstGeom prst="ellipse">
                <a:avLst/>
              </a:prstGeom>
              <a:noFill/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294" name="Group 25"/>
            <p:cNvGrpSpPr/>
            <p:nvPr/>
          </p:nvGrpSpPr>
          <p:grpSpPr>
            <a:xfrm>
              <a:off x="1409400" y="3429000"/>
              <a:ext cx="4264200" cy="704880"/>
              <a:chOff x="1409400" y="3429000"/>
              <a:chExt cx="4264200" cy="704880"/>
            </a:xfrm>
          </p:grpSpPr>
          <p:cxnSp>
            <p:nvCxnSpPr>
              <p:cNvPr id="295" name="Curved Connector 10"/>
              <p:cNvCxnSpPr>
                <a:stCxn id="293" idx="0"/>
                <a:endCxn id="296" idx="1"/>
              </p:cNvCxnSpPr>
              <p:nvPr/>
            </p:nvCxnSpPr>
            <p:spPr>
              <a:xfrm flipH="1" flipV="1" rot="5400000">
                <a:off x="1937160" y="3052800"/>
                <a:ext cx="506880" cy="1562760"/>
              </a:xfrm>
              <a:prstGeom prst="curvedConnector2">
                <a:avLst/>
              </a:prstGeom>
              <a:ln w="19080">
                <a:solidFill>
                  <a:srgbClr val="00b050"/>
                </a:solidFill>
                <a:prstDash val="sysDash"/>
                <a:miter/>
                <a:headEnd len="lg" type="triangle" w="lg"/>
                <a:tailEnd len="lg" type="triangle" w="lg"/>
              </a:ln>
            </p:spPr>
          </p:cxnSp>
          <p:sp>
            <p:nvSpPr>
              <p:cNvPr id="296" name="AutoShape 15"/>
              <p:cNvSpPr/>
              <p:nvPr/>
            </p:nvSpPr>
            <p:spPr>
              <a:xfrm>
                <a:off x="2971800" y="3429000"/>
                <a:ext cx="1828800" cy="303120"/>
              </a:xfrm>
              <a:prstGeom prst="roundRect">
                <a:avLst>
                  <a:gd name="adj" fmla="val 463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Bitstream Charter"/>
                  </a:rPr>
                  <a:t>param_value_sync</a:t>
                </a:r>
                <a:endParaRPr b="0" lang="en-US" sz="11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cxnSp>
            <p:nvCxnSpPr>
              <p:cNvPr id="297" name="Curved Connector 10"/>
              <p:cNvCxnSpPr>
                <a:stCxn id="296" idx="3"/>
                <a:endCxn id="291" idx="0"/>
              </p:cNvCxnSpPr>
              <p:nvPr/>
            </p:nvCxnSpPr>
            <p:spPr>
              <a:xfrm>
                <a:off x="4800240" y="3580920"/>
                <a:ext cx="873720" cy="553320"/>
              </a:xfrm>
              <a:prstGeom prst="curvedConnector2">
                <a:avLst/>
              </a:prstGeom>
              <a:ln w="19080">
                <a:solidFill>
                  <a:srgbClr val="00b050"/>
                </a:solidFill>
                <a:prstDash val="sysDash"/>
                <a:miter/>
                <a:headEnd len="lg" type="triangle" w="lg"/>
                <a:tailEnd len="lg" type="triangle" w="lg"/>
              </a:ln>
            </p:spPr>
          </p:cxnSp>
        </p:grpSp>
      </p:grpSp>
      <p:grpSp>
        <p:nvGrpSpPr>
          <p:cNvPr id="298" name="Group 3"/>
          <p:cNvGrpSpPr/>
          <p:nvPr/>
        </p:nvGrpSpPr>
        <p:grpSpPr>
          <a:xfrm>
            <a:off x="1143000" y="1219320"/>
            <a:ext cx="7010280" cy="860400"/>
            <a:chOff x="1143000" y="1219320"/>
            <a:chExt cx="7010280" cy="860400"/>
          </a:xfrm>
        </p:grpSpPr>
        <p:sp>
          <p:nvSpPr>
            <p:cNvPr id="299" name="AutoShape 5"/>
            <p:cNvSpPr/>
            <p:nvPr/>
          </p:nvSpPr>
          <p:spPr>
            <a:xfrm>
              <a:off x="3581280" y="1702440"/>
              <a:ext cx="2361960" cy="3772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00" name="AutoShape 23"/>
            <p:cNvSpPr/>
            <p:nvPr/>
          </p:nvSpPr>
          <p:spPr>
            <a:xfrm>
              <a:off x="1143000" y="1219320"/>
              <a:ext cx="7010280" cy="45756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cc00cc"/>
                  </a:solidFill>
                  <a:latin typeface="Bitstream Charter"/>
                </a:rPr>
                <a:t>Within BEOE phase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, change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value of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Bitstream Charter"/>
                </a:rPr>
                <a:t>clk_freq_Hz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via 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 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to 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5000 (Hz)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cxnSp>
        <p:nvCxnSpPr>
          <p:cNvPr id="301" name="Curved Connector 9"/>
          <p:cNvCxnSpPr>
            <a:stCxn id="300" idx="1"/>
            <a:endCxn id="293" idx="0"/>
          </p:cNvCxnSpPr>
          <p:nvPr/>
        </p:nvCxnSpPr>
        <p:spPr>
          <a:xfrm flipH="1" flipV="1" rot="10800000">
            <a:off x="1141560" y="1446840"/>
            <a:ext cx="267120" cy="2640600"/>
          </a:xfrm>
          <a:prstGeom prst="curvedConnector5">
            <a:avLst>
              <a:gd name="adj1" fmla="val -85695"/>
              <a:gd name="adj2" fmla="val 27297"/>
              <a:gd name="adj3" fmla="val -85695"/>
            </a:avLst>
          </a:prstGeom>
          <a:ln w="19080">
            <a:solidFill>
              <a:srgbClr val="7030a0"/>
            </a:solidFill>
            <a:miter/>
            <a:tailEnd len="med" type="arrow" w="med"/>
          </a:ln>
        </p:spPr>
      </p:cxnSp>
      <p:grpSp>
        <p:nvGrpSpPr>
          <p:cNvPr id="302" name="Group 15"/>
          <p:cNvGrpSpPr/>
          <p:nvPr/>
        </p:nvGrpSpPr>
        <p:grpSpPr>
          <a:xfrm>
            <a:off x="2514600" y="4114800"/>
            <a:ext cx="1828800" cy="457200"/>
            <a:chOff x="2514600" y="4114800"/>
            <a:chExt cx="1828800" cy="457200"/>
          </a:xfrm>
        </p:grpSpPr>
        <p:sp>
          <p:nvSpPr>
            <p:cNvPr id="303" name="AutoShape 15"/>
            <p:cNvSpPr/>
            <p:nvPr/>
          </p:nvSpPr>
          <p:spPr>
            <a:xfrm>
              <a:off x="2514600" y="4190760"/>
              <a:ext cx="1828800" cy="30312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5000 (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04" name="Oval 39"/>
            <p:cNvSpPr/>
            <p:nvPr/>
          </p:nvSpPr>
          <p:spPr>
            <a:xfrm>
              <a:off x="2514600" y="4114800"/>
              <a:ext cx="1752840" cy="457200"/>
            </a:xfrm>
            <a:prstGeom prst="ellipse">
              <a:avLst/>
            </a:prstGeom>
            <a:noFill/>
            <a:ln w="255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05" name="AutoShape 5"/>
          <p:cNvSpPr/>
          <p:nvPr/>
        </p:nvSpPr>
        <p:spPr>
          <a:xfrm>
            <a:off x="1752480" y="2441520"/>
            <a:ext cx="6323040" cy="45396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5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Registered Callback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for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k_freq_Hz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parameter is called and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ock_speed_Hz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value is synchronized with the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k_freq_Hz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valu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306" name="AutoShape 42"/>
          <p:cNvCxnSpPr>
            <a:stCxn id="296" idx="0"/>
            <a:endCxn id="305" idx="2"/>
          </p:cNvCxnSpPr>
          <p:nvPr/>
        </p:nvCxnSpPr>
        <p:spPr>
          <a:xfrm flipV="1">
            <a:off x="3886200" y="2895120"/>
            <a:ext cx="102960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307" name="Group 15"/>
          <p:cNvGrpSpPr/>
          <p:nvPr/>
        </p:nvGrpSpPr>
        <p:grpSpPr>
          <a:xfrm>
            <a:off x="6934320" y="4114800"/>
            <a:ext cx="1828800" cy="457200"/>
            <a:chOff x="6934320" y="4114800"/>
            <a:chExt cx="1828800" cy="457200"/>
          </a:xfrm>
        </p:grpSpPr>
        <p:sp>
          <p:nvSpPr>
            <p:cNvPr id="308" name="AutoShape 15"/>
            <p:cNvSpPr/>
            <p:nvPr/>
          </p:nvSpPr>
          <p:spPr>
            <a:xfrm>
              <a:off x="6934320" y="4190760"/>
              <a:ext cx="1828800" cy="30312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5000 (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09" name="Oval 39"/>
            <p:cNvSpPr/>
            <p:nvPr/>
          </p:nvSpPr>
          <p:spPr>
            <a:xfrm>
              <a:off x="6934320" y="4114800"/>
              <a:ext cx="1752840" cy="457200"/>
            </a:xfrm>
            <a:prstGeom prst="ellipse">
              <a:avLst/>
            </a:prstGeom>
            <a:noFill/>
            <a:ln w="255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10" name="Rectangle 50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1" name="Title 1"/>
          <p:cNvSpPr/>
          <p:nvPr/>
        </p:nvSpPr>
        <p:spPr>
          <a:xfrm>
            <a:off x="141120" y="46080"/>
            <a:ext cx="889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Example Illustration 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Group 123"/>
          <p:cNvGrpSpPr/>
          <p:nvPr/>
        </p:nvGrpSpPr>
        <p:grpSpPr>
          <a:xfrm>
            <a:off x="76320" y="3581280"/>
            <a:ext cx="8961480" cy="2574720"/>
            <a:chOff x="76320" y="3581280"/>
            <a:chExt cx="8961480" cy="2574720"/>
          </a:xfrm>
        </p:grpSpPr>
        <p:grpSp>
          <p:nvGrpSpPr>
            <p:cNvPr id="313" name="Group 92"/>
            <p:cNvGrpSpPr/>
            <p:nvPr/>
          </p:nvGrpSpPr>
          <p:grpSpPr>
            <a:xfrm>
              <a:off x="76320" y="3581280"/>
              <a:ext cx="8961480" cy="2574720"/>
              <a:chOff x="76320" y="3581280"/>
              <a:chExt cx="8961480" cy="2574720"/>
            </a:xfrm>
          </p:grpSpPr>
          <p:grpSp>
            <p:nvGrpSpPr>
              <p:cNvPr id="314" name="Group 93"/>
              <p:cNvGrpSpPr/>
              <p:nvPr/>
            </p:nvGrpSpPr>
            <p:grpSpPr>
              <a:xfrm>
                <a:off x="76320" y="3581280"/>
                <a:ext cx="8961480" cy="2574720"/>
                <a:chOff x="76320" y="3581280"/>
                <a:chExt cx="8961480" cy="2574720"/>
              </a:xfrm>
            </p:grpSpPr>
            <p:grpSp>
              <p:nvGrpSpPr>
                <p:cNvPr id="315" name="Group 94"/>
                <p:cNvGrpSpPr/>
                <p:nvPr/>
              </p:nvGrpSpPr>
              <p:grpSpPr>
                <a:xfrm>
                  <a:off x="76320" y="3581280"/>
                  <a:ext cx="8961480" cy="2574720"/>
                  <a:chOff x="76320" y="3581280"/>
                  <a:chExt cx="8961480" cy="2574720"/>
                </a:xfrm>
              </p:grpSpPr>
              <p:grpSp>
                <p:nvGrpSpPr>
                  <p:cNvPr id="316" name="Group 95"/>
                  <p:cNvGrpSpPr/>
                  <p:nvPr/>
                </p:nvGrpSpPr>
                <p:grpSpPr>
                  <a:xfrm>
                    <a:off x="76320" y="3581280"/>
                    <a:ext cx="8961480" cy="2574720"/>
                    <a:chOff x="76320" y="3581280"/>
                    <a:chExt cx="8961480" cy="2574720"/>
                  </a:xfrm>
                </p:grpSpPr>
                <p:grpSp>
                  <p:nvGrpSpPr>
                    <p:cNvPr id="317" name="Group 96"/>
                    <p:cNvGrpSpPr/>
                    <p:nvPr/>
                  </p:nvGrpSpPr>
                  <p:grpSpPr>
                    <a:xfrm>
                      <a:off x="76320" y="3581280"/>
                      <a:ext cx="8961480" cy="2574720"/>
                      <a:chOff x="76320" y="3581280"/>
                      <a:chExt cx="8961480" cy="2574720"/>
                    </a:xfrm>
                  </p:grpSpPr>
                  <p:grpSp>
                    <p:nvGrpSpPr>
                      <p:cNvPr id="318" name="Group 1"/>
                      <p:cNvGrpSpPr/>
                      <p:nvPr/>
                    </p:nvGrpSpPr>
                    <p:grpSpPr>
                      <a:xfrm>
                        <a:off x="76320" y="3581280"/>
                        <a:ext cx="8961480" cy="2574720"/>
                        <a:chOff x="76320" y="3581280"/>
                        <a:chExt cx="8961480" cy="2574720"/>
                      </a:xfrm>
                    </p:grpSpPr>
                    <p:sp>
                      <p:nvSpPr>
                        <p:cNvPr id="319" name="AutoShape 3"/>
                        <p:cNvSpPr/>
                        <p:nvPr/>
                      </p:nvSpPr>
                      <p:spPr>
                        <a:xfrm>
                          <a:off x="76320" y="3581280"/>
                          <a:ext cx="8961480" cy="2041560"/>
                        </a:xfrm>
                        <a:prstGeom prst="roundRect">
                          <a:avLst>
                            <a:gd name="adj" fmla="val 134"/>
                          </a:avLst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320" name="AutoShape 8"/>
                        <p:cNvSpPr/>
                        <p:nvPr/>
                      </p:nvSpPr>
                      <p:spPr>
                        <a:xfrm>
                          <a:off x="3961080" y="5645880"/>
                          <a:ext cx="1601640" cy="510120"/>
                        </a:xfrm>
                        <a:prstGeom prst="roundRect">
                          <a:avLst>
                            <a:gd name="adj" fmla="val 426"/>
                          </a:avLst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ctr" anchorCtr="1">
                          <a:norm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  <a:tab algn="l" pos="9601200"/>
                              <a:tab algn="l" pos="10058400"/>
                              <a:tab algn="l" pos="10515600"/>
                            </a:tabLst>
                          </a:pPr>
                          <a:r>
                            <a:rPr b="1" lang="en-US" sz="14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Top_Module</a:t>
                          </a:r>
                          <a:endParaRPr b="0" lang="en-US" sz="14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  <p:grpSp>
                    <p:nvGrpSpPr>
                      <p:cNvPr id="321" name="Group 32"/>
                      <p:cNvGrpSpPr/>
                      <p:nvPr/>
                    </p:nvGrpSpPr>
                    <p:grpSpPr>
                      <a:xfrm>
                        <a:off x="304920" y="4375080"/>
                        <a:ext cx="4030560" cy="963360"/>
                        <a:chOff x="304920" y="4375080"/>
                        <a:chExt cx="4030560" cy="963360"/>
                      </a:xfrm>
                    </p:grpSpPr>
                    <p:grpSp>
                      <p:nvGrpSpPr>
                        <p:cNvPr id="322" name="Group 29"/>
                        <p:cNvGrpSpPr/>
                        <p:nvPr/>
                      </p:nvGrpSpPr>
                      <p:grpSpPr>
                        <a:xfrm>
                          <a:off x="304920" y="4375080"/>
                          <a:ext cx="4030560" cy="523800"/>
                          <a:chOff x="304920" y="4375080"/>
                          <a:chExt cx="4030560" cy="523800"/>
                        </a:xfrm>
                      </p:grpSpPr>
                      <p:sp>
                        <p:nvSpPr>
                          <p:cNvPr id="323" name="AutoShape 11"/>
                          <p:cNvSpPr/>
                          <p:nvPr/>
                        </p:nvSpPr>
                        <p:spPr>
                          <a:xfrm>
                            <a:off x="304920" y="4375080"/>
                            <a:ext cx="4030560" cy="523800"/>
                          </a:xfrm>
                          <a:prstGeom prst="roundRect">
                            <a:avLst>
                              <a:gd name="adj" fmla="val 120"/>
                            </a:avLst>
                          </a:prstGeom>
                          <a:solidFill>
                            <a:srgbClr val="ffffff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457200"/>
                                <a:tab algn="l" pos="914400"/>
                                <a:tab algn="l" pos="1371600"/>
                                <a:tab algn="l" pos="1828800"/>
                                <a:tab algn="l" pos="2286000"/>
                                <a:tab algn="l" pos="2743200"/>
                                <a:tab algn="l" pos="3200400"/>
                                <a:tab algn="l" pos="3657600"/>
                                <a:tab algn="l" pos="4114800"/>
                                <a:tab algn="l" pos="4572000"/>
                                <a:tab algn="l" pos="5029200"/>
                                <a:tab algn="l" pos="5486400"/>
                                <a:tab algn="l" pos="5943600"/>
                                <a:tab algn="l" pos="6400800"/>
                                <a:tab algn="l" pos="6858000"/>
                                <a:tab algn="l" pos="7315200"/>
                                <a:tab algn="l" pos="7772400"/>
                                <a:tab algn="l" pos="8229600"/>
                                <a:tab algn="l" pos="8686800"/>
                                <a:tab algn="l" pos="91440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Calibri"/>
                            </a:endParaRPr>
                          </a:p>
                        </p:txBody>
                      </p:sp>
                      <p:grpSp>
                        <p:nvGrpSpPr>
                          <p:cNvPr id="324" name="Group 28"/>
                          <p:cNvGrpSpPr/>
                          <p:nvPr/>
                        </p:nvGrpSpPr>
                        <p:grpSpPr>
                          <a:xfrm>
                            <a:off x="449280" y="4474440"/>
                            <a:ext cx="3741840" cy="293400"/>
                            <a:chOff x="449280" y="4474440"/>
                            <a:chExt cx="3741840" cy="293400"/>
                          </a:xfrm>
                        </p:grpSpPr>
                        <p:sp>
                          <p:nvSpPr>
                            <p:cNvPr id="325" name="AutoShape 12"/>
                            <p:cNvSpPr/>
                            <p:nvPr/>
                          </p:nvSpPr>
                          <p:spPr>
                            <a:xfrm>
                              <a:off x="449280" y="4474440"/>
                              <a:ext cx="1989360" cy="293400"/>
                            </a:xfrm>
                            <a:prstGeom prst="roundRect">
                              <a:avLst>
                                <a:gd name="adj" fmla="val 463"/>
                              </a:avLst>
                            </a:pr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5000" bIns="45000" anchor="ctr" anchorCtr="1">
                              <a:normAutofit/>
                            </a:bodyPr>
                            <a:p>
                              <a:pPr algn="ctr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457200"/>
                                  <a:tab algn="l" pos="914400"/>
                                  <a:tab algn="l" pos="1371600"/>
                                  <a:tab algn="l" pos="1828800"/>
                                  <a:tab algn="l" pos="2286000"/>
                                  <a:tab algn="l" pos="2743200"/>
                                  <a:tab algn="l" pos="3200400"/>
                                  <a:tab algn="l" pos="3657600"/>
                                  <a:tab algn="l" pos="4114800"/>
                                  <a:tab algn="l" pos="4572000"/>
                                  <a:tab algn="l" pos="5029200"/>
                                  <a:tab algn="l" pos="5486400"/>
                                  <a:tab algn="l" pos="5943600"/>
                                  <a:tab algn="l" pos="6400800"/>
                                  <a:tab algn="l" pos="6858000"/>
                                  <a:tab algn="l" pos="7315200"/>
                                  <a:tab algn="l" pos="7772400"/>
                                  <a:tab algn="l" pos="8229600"/>
                                  <a:tab algn="l" pos="8686800"/>
                                  <a:tab algn="l" pos="9144000"/>
                                  <a:tab algn="l" pos="9601200"/>
                                  <a:tab algn="l" pos="10058400"/>
                                  <a:tab algn="l" pos="10515600"/>
                                </a:tabLst>
                              </a:pPr>
                              <a:r>
                                <a:rPr b="1" lang="en-US" sz="1100" spc="-1" strike="noStrike">
                                  <a:solidFill>
                                    <a:srgbClr val="000000"/>
                                  </a:solidFill>
                                  <a:latin typeface="Bitstream Charter"/>
                                  <a:ea typeface="Arial"/>
                                </a:rPr>
                                <a:t>Param_Name :</a:t>
                              </a:r>
                              <a:r>
                                <a:rPr b="0" lang="en-US" sz="1100" spc="-1" strike="noStrike">
                                  <a:solidFill>
                                    <a:srgbClr val="000000"/>
                                  </a:solidFill>
                                  <a:latin typeface="Bitstream Charter"/>
                                  <a:ea typeface="Arial"/>
                                </a:rPr>
                                <a:t> clk_freq_Hz</a:t>
                              </a:r>
                              <a:endParaRPr b="0" lang="en-US" sz="1100" spc="-1" strike="noStrike">
                                <a:solidFill>
                                  <a:srgbClr val="ffffff"/>
                                </a:solidFill>
                                <a:latin typeface="Calibri"/>
                              </a:endParaRPr>
                            </a:p>
                          </p:txBody>
                        </p:sp>
                        <p:sp>
                          <p:nvSpPr>
                            <p:cNvPr id="326" name="AutoShape 15"/>
                            <p:cNvSpPr/>
                            <p:nvPr/>
                          </p:nvSpPr>
                          <p:spPr>
                            <a:xfrm>
                              <a:off x="2362320" y="4474440"/>
                              <a:ext cx="1828800" cy="293400"/>
                            </a:xfrm>
                            <a:prstGeom prst="roundRect">
                              <a:avLst>
                                <a:gd name="adj" fmla="val 463"/>
                              </a:avLst>
                            </a:pr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5000" bIns="45000" anchor="ctr" anchorCtr="1">
                              <a:normAutofit fontScale="96000"/>
                            </a:bodyPr>
                            <a:p>
                              <a:pPr algn="ctr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457200"/>
                                  <a:tab algn="l" pos="914400"/>
                                  <a:tab algn="l" pos="1371600"/>
                                  <a:tab algn="l" pos="1828800"/>
                                  <a:tab algn="l" pos="2286000"/>
                                  <a:tab algn="l" pos="2743200"/>
                                  <a:tab algn="l" pos="3200400"/>
                                  <a:tab algn="l" pos="3657600"/>
                                  <a:tab algn="l" pos="4114800"/>
                                  <a:tab algn="l" pos="4572000"/>
                                  <a:tab algn="l" pos="5029200"/>
                                  <a:tab algn="l" pos="5486400"/>
                                  <a:tab algn="l" pos="5943600"/>
                                  <a:tab algn="l" pos="6400800"/>
                                  <a:tab algn="l" pos="6858000"/>
                                  <a:tab algn="l" pos="7315200"/>
                                  <a:tab algn="l" pos="7772400"/>
                                  <a:tab algn="l" pos="8229600"/>
                                  <a:tab algn="l" pos="8686800"/>
                                  <a:tab algn="l" pos="9144000"/>
                                  <a:tab algn="l" pos="9601200"/>
                                  <a:tab algn="l" pos="10058400"/>
                                  <a:tab algn="l" pos="10515600"/>
                                </a:tabLst>
                              </a:pPr>
                              <a:r>
                                <a:rPr b="1" lang="en-US" sz="1100" spc="-1" strike="noStrike">
                                  <a:solidFill>
                                    <a:srgbClr val="000000"/>
                                  </a:solidFill>
                                  <a:latin typeface="Bitstream Charter"/>
                                </a:rPr>
                                <a:t>Default Value :</a:t>
                              </a:r>
                              <a:r>
                                <a:rPr b="0" lang="en-US" sz="1100" spc="-1" strike="noStrike">
                                  <a:solidFill>
                                    <a:srgbClr val="000000"/>
                                  </a:solidFill>
                                  <a:latin typeface="Bitstream Charter"/>
                                </a:rPr>
                                <a:t> 1000 (Hz)</a:t>
                              </a:r>
                              <a:endParaRPr b="0" lang="en-US" sz="1100" spc="-1" strike="noStrike">
                                <a:solidFill>
                                  <a:srgbClr val="ffffff"/>
                                </a:solidFill>
                                <a:latin typeface="Calibri"/>
                              </a:endParaRPr>
                            </a:p>
                          </p:txBody>
                        </p:sp>
                      </p:grpSp>
                    </p:grpSp>
                    <p:sp>
                      <p:nvSpPr>
                        <p:cNvPr id="327" name="AutoShape 6"/>
                        <p:cNvSpPr/>
                        <p:nvPr/>
                      </p:nvSpPr>
                      <p:spPr>
                        <a:xfrm>
                          <a:off x="1220760" y="4973760"/>
                          <a:ext cx="1827000" cy="364680"/>
                        </a:xfrm>
                        <a:prstGeom prst="roundRect">
                          <a:avLst>
                            <a:gd name="adj" fmla="val 426"/>
                          </a:avLst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ctr" anchorCtr="1">
                          <a:normAutofit fontScale="64000"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  <a:tab algn="l" pos="9601200"/>
                              <a:tab algn="l" pos="10058400"/>
                              <a:tab algn="l" pos="10515600"/>
                            </a:tabLst>
                          </a:pPr>
                          <a:r>
                            <a:rPr b="1" lang="en-US" sz="14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Instance#1</a:t>
                          </a:r>
                          <a:br>
                            <a:rPr sz="1400"/>
                          </a:br>
                          <a:r>
                            <a:rPr b="1" lang="en-US" sz="14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Parameter_Owner</a:t>
                          </a:r>
                          <a:endParaRPr b="0" lang="en-US" sz="14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  <p:grpSp>
                    <p:nvGrpSpPr>
                      <p:cNvPr id="328" name="Group 2"/>
                      <p:cNvGrpSpPr/>
                      <p:nvPr/>
                    </p:nvGrpSpPr>
                    <p:grpSpPr>
                      <a:xfrm>
                        <a:off x="4419720" y="4375080"/>
                        <a:ext cx="4411440" cy="963360"/>
                        <a:chOff x="4419720" y="4375080"/>
                        <a:chExt cx="4411440" cy="963360"/>
                      </a:xfrm>
                    </p:grpSpPr>
                    <p:grpSp>
                      <p:nvGrpSpPr>
                        <p:cNvPr id="329" name="Group 31"/>
                        <p:cNvGrpSpPr/>
                        <p:nvPr/>
                      </p:nvGrpSpPr>
                      <p:grpSpPr>
                        <a:xfrm>
                          <a:off x="4419720" y="4375080"/>
                          <a:ext cx="4411440" cy="523800"/>
                          <a:chOff x="4419720" y="4375080"/>
                          <a:chExt cx="4411440" cy="523800"/>
                        </a:xfrm>
                      </p:grpSpPr>
                      <p:sp>
                        <p:nvSpPr>
                          <p:cNvPr id="330" name="AutoShape 11"/>
                          <p:cNvSpPr/>
                          <p:nvPr/>
                        </p:nvSpPr>
                        <p:spPr>
                          <a:xfrm>
                            <a:off x="4419720" y="4375080"/>
                            <a:ext cx="4411440" cy="523800"/>
                          </a:xfrm>
                          <a:prstGeom prst="roundRect">
                            <a:avLst>
                              <a:gd name="adj" fmla="val 120"/>
                            </a:avLst>
                          </a:prstGeom>
                          <a:solidFill>
                            <a:srgbClr val="ffffff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457200"/>
                                <a:tab algn="l" pos="914400"/>
                                <a:tab algn="l" pos="1371600"/>
                                <a:tab algn="l" pos="1828800"/>
                                <a:tab algn="l" pos="2286000"/>
                                <a:tab algn="l" pos="2743200"/>
                                <a:tab algn="l" pos="3200400"/>
                                <a:tab algn="l" pos="3657600"/>
                                <a:tab algn="l" pos="4114800"/>
                                <a:tab algn="l" pos="4572000"/>
                                <a:tab algn="l" pos="5029200"/>
                                <a:tab algn="l" pos="5486400"/>
                                <a:tab algn="l" pos="5943600"/>
                                <a:tab algn="l" pos="6400800"/>
                                <a:tab algn="l" pos="6858000"/>
                                <a:tab algn="l" pos="7315200"/>
                                <a:tab algn="l" pos="7772400"/>
                                <a:tab algn="l" pos="8229600"/>
                                <a:tab algn="l" pos="8686800"/>
                                <a:tab algn="l" pos="91440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Calibri"/>
                            </a:endParaRPr>
                          </a:p>
                        </p:txBody>
                      </p:sp>
                      <p:grpSp>
                        <p:nvGrpSpPr>
                          <p:cNvPr id="331" name="Group 30"/>
                          <p:cNvGrpSpPr/>
                          <p:nvPr/>
                        </p:nvGrpSpPr>
                        <p:grpSpPr>
                          <a:xfrm>
                            <a:off x="4556160" y="4449600"/>
                            <a:ext cx="4275000" cy="335160"/>
                            <a:chOff x="4556160" y="4449600"/>
                            <a:chExt cx="4275000" cy="335160"/>
                          </a:xfrm>
                        </p:grpSpPr>
                        <p:sp>
                          <p:nvSpPr>
                            <p:cNvPr id="332" name="AutoShape 12"/>
                            <p:cNvSpPr/>
                            <p:nvPr/>
                          </p:nvSpPr>
                          <p:spPr>
                            <a:xfrm>
                              <a:off x="4556160" y="4449600"/>
                              <a:ext cx="2378160" cy="335160"/>
                            </a:xfrm>
                            <a:prstGeom prst="roundRect">
                              <a:avLst>
                                <a:gd name="adj" fmla="val 463"/>
                              </a:avLst>
                            </a:pr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5000" bIns="45000" anchor="ctr" anchorCtr="1">
                              <a:normAutofit/>
                            </a:bodyPr>
                            <a:p>
                              <a:pPr algn="ctr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457200"/>
                                  <a:tab algn="l" pos="914400"/>
                                  <a:tab algn="l" pos="1371600"/>
                                  <a:tab algn="l" pos="1828800"/>
                                  <a:tab algn="l" pos="2286000"/>
                                  <a:tab algn="l" pos="2743200"/>
                                  <a:tab algn="l" pos="3200400"/>
                                  <a:tab algn="l" pos="3657600"/>
                                  <a:tab algn="l" pos="4114800"/>
                                  <a:tab algn="l" pos="4572000"/>
                                  <a:tab algn="l" pos="5029200"/>
                                  <a:tab algn="l" pos="5486400"/>
                                  <a:tab algn="l" pos="5943600"/>
                                  <a:tab algn="l" pos="6400800"/>
                                  <a:tab algn="l" pos="6858000"/>
                                  <a:tab algn="l" pos="7315200"/>
                                  <a:tab algn="l" pos="7772400"/>
                                  <a:tab algn="l" pos="8229600"/>
                                  <a:tab algn="l" pos="8686800"/>
                                  <a:tab algn="l" pos="9144000"/>
                                  <a:tab algn="l" pos="9601200"/>
                                  <a:tab algn="l" pos="10058400"/>
                                  <a:tab algn="l" pos="10515600"/>
                                </a:tabLst>
                              </a:pPr>
                              <a:r>
                                <a:rPr b="1" lang="en-US" sz="1100" spc="-1" strike="noStrike">
                                  <a:solidFill>
                                    <a:srgbClr val="000000"/>
                                  </a:solidFill>
                                  <a:latin typeface="Bitstream Charter"/>
                                  <a:ea typeface="Arial"/>
                                </a:rPr>
                                <a:t>Param_Name :</a:t>
                              </a:r>
                              <a:r>
                                <a:rPr b="0" lang="en-US" sz="1100" spc="-1" strike="noStrike">
                                  <a:solidFill>
                                    <a:srgbClr val="000000"/>
                                  </a:solidFill>
                                  <a:latin typeface="Bitstream Charter"/>
                                  <a:ea typeface="Arial"/>
                                </a:rPr>
                                <a:t> clock_speed_Hz</a:t>
                              </a:r>
                              <a:endParaRPr b="0" lang="en-US" sz="1100" spc="-1" strike="noStrike">
                                <a:solidFill>
                                  <a:srgbClr val="ffffff"/>
                                </a:solidFill>
                                <a:latin typeface="Calibri"/>
                              </a:endParaRPr>
                            </a:p>
                          </p:txBody>
                        </p:sp>
                        <p:sp>
                          <p:nvSpPr>
                            <p:cNvPr id="333" name="AutoShape 15"/>
                            <p:cNvSpPr/>
                            <p:nvPr/>
                          </p:nvSpPr>
                          <p:spPr>
                            <a:xfrm>
                              <a:off x="6850080" y="4449600"/>
                              <a:ext cx="1981080" cy="335160"/>
                            </a:xfrm>
                            <a:prstGeom prst="roundRect">
                              <a:avLst>
                                <a:gd name="adj" fmla="val 463"/>
                              </a:avLst>
                            </a:pr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5000" bIns="45000" anchor="ctr" anchorCtr="1">
                              <a:normAutofit/>
                            </a:bodyPr>
                            <a:p>
                              <a:pPr algn="ctr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457200"/>
                                  <a:tab algn="l" pos="914400"/>
                                  <a:tab algn="l" pos="1371600"/>
                                  <a:tab algn="l" pos="1828800"/>
                                  <a:tab algn="l" pos="2286000"/>
                                  <a:tab algn="l" pos="2743200"/>
                                  <a:tab algn="l" pos="3200400"/>
                                  <a:tab algn="l" pos="3657600"/>
                                  <a:tab algn="l" pos="4114800"/>
                                  <a:tab algn="l" pos="4572000"/>
                                  <a:tab algn="l" pos="5029200"/>
                                  <a:tab algn="l" pos="5486400"/>
                                  <a:tab algn="l" pos="5943600"/>
                                  <a:tab algn="l" pos="6400800"/>
                                  <a:tab algn="l" pos="6858000"/>
                                  <a:tab algn="l" pos="7315200"/>
                                  <a:tab algn="l" pos="7772400"/>
                                  <a:tab algn="l" pos="8229600"/>
                                  <a:tab algn="l" pos="8686800"/>
                                  <a:tab algn="l" pos="9144000"/>
                                  <a:tab algn="l" pos="9601200"/>
                                  <a:tab algn="l" pos="10058400"/>
                                  <a:tab algn="l" pos="10515600"/>
                                </a:tabLst>
                              </a:pPr>
                              <a:r>
                                <a:rPr b="1" lang="en-US" sz="1100" spc="-1" strike="noStrike">
                                  <a:solidFill>
                                    <a:srgbClr val="000000"/>
                                  </a:solidFill>
                                  <a:latin typeface="Bitstream Charter"/>
                                </a:rPr>
                                <a:t>Default Value :</a:t>
                              </a:r>
                              <a:r>
                                <a:rPr b="0" lang="en-US" sz="1100" spc="-1" strike="noStrike">
                                  <a:solidFill>
                                    <a:srgbClr val="000000"/>
                                  </a:solidFill>
                                  <a:latin typeface="Bitstream Charter"/>
                                </a:rPr>
                                <a:t> 2 (KHz)</a:t>
                              </a:r>
                              <a:endParaRPr b="0" lang="en-US" sz="1100" spc="-1" strike="noStrike">
                                <a:solidFill>
                                  <a:srgbClr val="ffffff"/>
                                </a:solidFill>
                                <a:latin typeface="Calibri"/>
                              </a:endParaRPr>
                            </a:p>
                          </p:txBody>
                        </p:sp>
                      </p:grpSp>
                    </p:grpSp>
                    <p:sp>
                      <p:nvSpPr>
                        <p:cNvPr id="334" name="AutoShape 6"/>
                        <p:cNvSpPr/>
                        <p:nvPr/>
                      </p:nvSpPr>
                      <p:spPr>
                        <a:xfrm>
                          <a:off x="5716440" y="4973760"/>
                          <a:ext cx="1827000" cy="364680"/>
                        </a:xfrm>
                        <a:prstGeom prst="roundRect">
                          <a:avLst>
                            <a:gd name="adj" fmla="val 426"/>
                          </a:avLst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ctr" anchorCtr="1">
                          <a:normAutofit fontScale="64000"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  <a:tab algn="l" pos="9601200"/>
                              <a:tab algn="l" pos="10058400"/>
                              <a:tab algn="l" pos="10515600"/>
                            </a:tabLst>
                          </a:pPr>
                          <a:r>
                            <a:rPr b="1" lang="en-US" sz="14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Instance#2</a:t>
                          </a:r>
                          <a:br>
                            <a:rPr sz="1400"/>
                          </a:br>
                          <a:r>
                            <a:rPr b="1" lang="en-US" sz="14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Parameter_Owner</a:t>
                          </a:r>
                          <a:endParaRPr b="0" lang="en-US" sz="14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335" name="Oval 26"/>
                    <p:cNvSpPr/>
                    <p:nvPr/>
                  </p:nvSpPr>
                  <p:spPr>
                    <a:xfrm>
                      <a:off x="4495680" y="4435200"/>
                      <a:ext cx="2354400" cy="365040"/>
                    </a:xfrm>
                    <a:prstGeom prst="ellipse">
                      <a:avLst/>
                    </a:prstGeom>
                    <a:noFill/>
                    <a:ln w="255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336" name="AutoShape 15"/>
                  <p:cNvSpPr/>
                  <p:nvPr/>
                </p:nvSpPr>
                <p:spPr>
                  <a:xfrm>
                    <a:off x="7010280" y="4495680"/>
                    <a:ext cx="1676520" cy="303120"/>
                  </a:xfrm>
                  <a:prstGeom prst="roundRect">
                    <a:avLst>
                      <a:gd name="adj" fmla="val 463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ctr" anchorCtr="1">
                    <a:norm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US" sz="1100" spc="-1" strike="noStrike">
                        <a:solidFill>
                          <a:srgbClr val="000000"/>
                        </a:solidFill>
                        <a:latin typeface="Bitstream Charter"/>
                      </a:rPr>
                      <a:t>Old Value :</a:t>
                    </a:r>
                    <a:r>
                      <a:rPr b="0" lang="en-US" sz="1100" spc="-1" strike="noStrike">
                        <a:solidFill>
                          <a:srgbClr val="000000"/>
                        </a:solidFill>
                        <a:latin typeface="Bitstream Charter"/>
                      </a:rPr>
                      <a:t> 1000 (Hz)</a:t>
                    </a:r>
                    <a:endParaRPr b="0" lang="en-US" sz="1100" spc="-1" strike="noStrike">
                      <a:solidFill>
                        <a:srgbClr val="ffffff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337" name="Oval 25"/>
                <p:cNvSpPr/>
                <p:nvPr/>
              </p:nvSpPr>
              <p:spPr>
                <a:xfrm>
                  <a:off x="380880" y="4404960"/>
                  <a:ext cx="2057400" cy="441360"/>
                </a:xfrm>
                <a:prstGeom prst="ellipse">
                  <a:avLst/>
                </a:prstGeom>
                <a:noFill/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338" name="Group 117"/>
              <p:cNvGrpSpPr/>
              <p:nvPr/>
            </p:nvGrpSpPr>
            <p:grpSpPr>
              <a:xfrm>
                <a:off x="1409400" y="3733560"/>
                <a:ext cx="4264200" cy="704880"/>
                <a:chOff x="1409400" y="3733560"/>
                <a:chExt cx="4264200" cy="704880"/>
              </a:xfrm>
            </p:grpSpPr>
            <p:cxnSp>
              <p:nvCxnSpPr>
                <p:cNvPr id="339" name="Curved Connector 10"/>
                <p:cNvCxnSpPr>
                  <a:stCxn id="337" idx="0"/>
                  <a:endCxn id="340" idx="1"/>
                </p:cNvCxnSpPr>
                <p:nvPr/>
              </p:nvCxnSpPr>
              <p:spPr>
                <a:xfrm flipH="1" flipV="1" rot="5400000">
                  <a:off x="1937160" y="3357360"/>
                  <a:ext cx="506880" cy="1562760"/>
                </a:xfrm>
                <a:prstGeom prst="curvedConnector2">
                  <a:avLst/>
                </a:prstGeom>
                <a:ln w="19080">
                  <a:solidFill>
                    <a:srgbClr val="00b050"/>
                  </a:solidFill>
                  <a:prstDash val="sysDash"/>
                  <a:miter/>
                  <a:headEnd len="lg" type="triangle" w="lg"/>
                  <a:tailEnd len="lg" type="triangle" w="lg"/>
                </a:ln>
              </p:spPr>
            </p:cxnSp>
            <p:sp>
              <p:nvSpPr>
                <p:cNvPr id="340" name="AutoShape 15"/>
                <p:cNvSpPr/>
                <p:nvPr/>
              </p:nvSpPr>
              <p:spPr>
                <a:xfrm>
                  <a:off x="2971800" y="3733560"/>
                  <a:ext cx="1828800" cy="30312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param_value_sync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cxnSp>
              <p:nvCxnSpPr>
                <p:cNvPr id="341" name="Curved Connector 10"/>
                <p:cNvCxnSpPr>
                  <a:stCxn id="340" idx="3"/>
                  <a:endCxn id="335" idx="0"/>
                </p:cNvCxnSpPr>
                <p:nvPr/>
              </p:nvCxnSpPr>
              <p:spPr>
                <a:xfrm>
                  <a:off x="4800240" y="3885480"/>
                  <a:ext cx="873720" cy="553320"/>
                </a:xfrm>
                <a:prstGeom prst="curvedConnector2">
                  <a:avLst/>
                </a:prstGeom>
                <a:ln w="19080">
                  <a:solidFill>
                    <a:srgbClr val="00b050"/>
                  </a:solidFill>
                  <a:prstDash val="sysDash"/>
                  <a:miter/>
                  <a:headEnd len="lg" type="triangle" w="lg"/>
                  <a:tailEnd len="lg" type="triangle" w="lg"/>
                </a:ln>
              </p:spPr>
            </p:cxnSp>
          </p:grpSp>
        </p:grpSp>
        <p:sp>
          <p:nvSpPr>
            <p:cNvPr id="342" name="AutoShape 23"/>
            <p:cNvSpPr/>
            <p:nvPr/>
          </p:nvSpPr>
          <p:spPr>
            <a:xfrm>
              <a:off x="6934320" y="4572000"/>
              <a:ext cx="1676160" cy="15228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Old Value :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5000 (Hz)</a:t>
              </a:r>
              <a:endParaRPr b="0" lang="en-US" sz="12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43" name="AutoShape 23"/>
            <p:cNvSpPr/>
            <p:nvPr/>
          </p:nvSpPr>
          <p:spPr>
            <a:xfrm>
              <a:off x="2514600" y="4495680"/>
              <a:ext cx="1676520" cy="22860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Old Value :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5000 (Hz)</a:t>
              </a:r>
              <a:endParaRPr b="0" lang="en-US" sz="12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344" name="Group 3"/>
          <p:cNvGrpSpPr/>
          <p:nvPr/>
        </p:nvGrpSpPr>
        <p:grpSpPr>
          <a:xfrm>
            <a:off x="1600200" y="1730520"/>
            <a:ext cx="6705720" cy="860400"/>
            <a:chOff x="1600200" y="1730520"/>
            <a:chExt cx="6705720" cy="860400"/>
          </a:xfrm>
        </p:grpSpPr>
        <p:sp>
          <p:nvSpPr>
            <p:cNvPr id="345" name="AutoShape 5"/>
            <p:cNvSpPr/>
            <p:nvPr/>
          </p:nvSpPr>
          <p:spPr>
            <a:xfrm>
              <a:off x="3562920" y="2213640"/>
              <a:ext cx="2535120" cy="3772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46" name="AutoShape 23"/>
            <p:cNvSpPr/>
            <p:nvPr/>
          </p:nvSpPr>
          <p:spPr>
            <a:xfrm>
              <a:off x="1600200" y="1730520"/>
              <a:ext cx="6705720" cy="47916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At 0ns, change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value of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Bitstream Charter"/>
                </a:rPr>
                <a:t>clck_speed_Hz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via 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 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to 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12000 (Hz)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47" name="AutoShape 23"/>
          <p:cNvSpPr/>
          <p:nvPr/>
        </p:nvSpPr>
        <p:spPr>
          <a:xfrm>
            <a:off x="2971800" y="1066680"/>
            <a:ext cx="3581280" cy="45720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Simulation start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8" name="AutoShape 5"/>
          <p:cNvSpPr/>
          <p:nvPr/>
        </p:nvSpPr>
        <p:spPr>
          <a:xfrm>
            <a:off x="1600200" y="2822400"/>
            <a:ext cx="6323040" cy="45432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5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Registered Callback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for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ock_speed_Hz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parameter is called and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k_freq_Hz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value is synchronized with the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ock_speed_Hz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valu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349" name="Curved Connector 9"/>
          <p:cNvCxnSpPr>
            <a:stCxn id="346" idx="3"/>
            <a:endCxn id="335" idx="0"/>
          </p:cNvCxnSpPr>
          <p:nvPr/>
        </p:nvCxnSpPr>
        <p:spPr>
          <a:xfrm flipH="1">
            <a:off x="5673240" y="1969560"/>
            <a:ext cx="2633040" cy="2453400"/>
          </a:xfrm>
          <a:prstGeom prst="curvedConnector5">
            <a:avLst>
              <a:gd name="adj1" fmla="val -8683"/>
              <a:gd name="adj2" fmla="val 27560"/>
              <a:gd name="adj3" fmla="val -8683"/>
            </a:avLst>
          </a:prstGeom>
          <a:ln w="19080">
            <a:solidFill>
              <a:srgbClr val="92823e"/>
            </a:solidFill>
            <a:miter/>
            <a:tailEnd len="med" type="arrow" w="med"/>
          </a:ln>
        </p:spPr>
      </p:cxnSp>
      <p:grpSp>
        <p:nvGrpSpPr>
          <p:cNvPr id="350" name="Group 46"/>
          <p:cNvGrpSpPr/>
          <p:nvPr/>
        </p:nvGrpSpPr>
        <p:grpSpPr>
          <a:xfrm>
            <a:off x="6934320" y="4419720"/>
            <a:ext cx="1828800" cy="457200"/>
            <a:chOff x="6934320" y="4419720"/>
            <a:chExt cx="1828800" cy="457200"/>
          </a:xfrm>
        </p:grpSpPr>
        <p:sp>
          <p:nvSpPr>
            <p:cNvPr id="351" name="AutoShape 15"/>
            <p:cNvSpPr/>
            <p:nvPr/>
          </p:nvSpPr>
          <p:spPr>
            <a:xfrm>
              <a:off x="6934320" y="4495680"/>
              <a:ext cx="1828800" cy="30312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12000 (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52" name="Oval 48"/>
            <p:cNvSpPr/>
            <p:nvPr/>
          </p:nvSpPr>
          <p:spPr>
            <a:xfrm>
              <a:off x="6934320" y="4419720"/>
              <a:ext cx="1752840" cy="457200"/>
            </a:xfrm>
            <a:prstGeom prst="ellipse">
              <a:avLst/>
            </a:prstGeom>
            <a:noFill/>
            <a:ln w="25560">
              <a:solidFill>
                <a:srgbClr val="9282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353" name="Group 46"/>
          <p:cNvGrpSpPr/>
          <p:nvPr/>
        </p:nvGrpSpPr>
        <p:grpSpPr>
          <a:xfrm>
            <a:off x="2514600" y="4419720"/>
            <a:ext cx="1828800" cy="457200"/>
            <a:chOff x="2514600" y="4419720"/>
            <a:chExt cx="1828800" cy="457200"/>
          </a:xfrm>
        </p:grpSpPr>
        <p:sp>
          <p:nvSpPr>
            <p:cNvPr id="354" name="AutoShape 15"/>
            <p:cNvSpPr/>
            <p:nvPr/>
          </p:nvSpPr>
          <p:spPr>
            <a:xfrm>
              <a:off x="2514600" y="4495680"/>
              <a:ext cx="1828800" cy="30312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12000 (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55" name="Oval 48"/>
            <p:cNvSpPr/>
            <p:nvPr/>
          </p:nvSpPr>
          <p:spPr>
            <a:xfrm>
              <a:off x="2514600" y="4419720"/>
              <a:ext cx="1752840" cy="457200"/>
            </a:xfrm>
            <a:prstGeom prst="ellipse">
              <a:avLst/>
            </a:prstGeom>
            <a:noFill/>
            <a:ln w="25560">
              <a:solidFill>
                <a:srgbClr val="9282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cxnSp>
        <p:nvCxnSpPr>
          <p:cNvPr id="356" name="AutoShape 130"/>
          <p:cNvCxnSpPr>
            <a:stCxn id="340" idx="0"/>
          </p:cNvCxnSpPr>
          <p:nvPr/>
        </p:nvCxnSpPr>
        <p:spPr>
          <a:xfrm flipV="1">
            <a:off x="3886200" y="3276360"/>
            <a:ext cx="838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7" name="Rectangle 131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7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8" name="Title 1"/>
          <p:cNvSpPr/>
          <p:nvPr/>
        </p:nvSpPr>
        <p:spPr>
          <a:xfrm>
            <a:off x="141120" y="46080"/>
            <a:ext cx="889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Example Illustration 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Expected Output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(ex11_Searching_and_Directly_Associateing_Parameters.log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380880" y="12193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owner1: @0 s, [OWNER C_TOR] : Parameter Name   : top_mod.param_owner1.clk_freq_Hz   Parameter Value : 1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owner2: @0 s, [OWNER C_TOR] : Parameter Name   : top_mod.param_owner2.clock_speed_Hz    Parameter Value :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: @0 s, [TOP_MODULE C_TOR] : Parameter Name : top_mod.param_owner1.clk_freq_Hz Parameter Value : 1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: @0 s, [TOP_MODULE C_TOR] : Parameter Name : top_mod.param_owner2.clock_speed_Hz  Parameter Value :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C_TOR] : Parameter Name : top_mod.param_owner1.clk_freq_Hz    Parameter Value : 1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C_TOR] : Parameter Name : top_mod.param_owner2.clock_speed_Hz Parameter Value : 1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within beoe] Within the BEOE phas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within beoe] : Changing the 'clk_freq_Hz' of OWNER (1) to 5000 (Hz)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value_sync: @0 s, [PARAM_VALUE_SYNC - post_write callback] : Parameter Name : top_mod.param_owner1.clk_freq_Hz  Value : 5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value_sync: @0 s, [PARAM_VALUE_SYNC - post_write callback] : Parameter Name : top_mod.param_owner2.clock_speed_Hz   Value : 5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380880" y="15145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within beoe] : Parameter Name : top_mod.param_owner1.clk_freq_Hz  Parameter Value : 5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within beoe] : Parameter Name : top_mod.param_owner2.clock_speed_Hz   Parameter Value : 5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@ 0 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Changing the 'clock_speed_Hz' of OWNER (2) to 12000 (Hz)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value_sync: @0 s, [PARAM_VALUE_SYNC - post_write callback] : Parameter Name : top_mod.param_owner2.clock_speed_Hz   Value : 1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value_sync: @0 s, [PARAM_VALUE_SYNC - post_write callback] : Parameter Name : top_mod.param_owner1.clk_freq_Hz  Value : 1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Parameter Name : top_mod.param_owner1.clk_freq_Hz  Parameter Value : 1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Parameter Name : top_mod.param_owner2.clock_speed_Hz   Parameter Value : 1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8:34:41Z</dcterms:created>
  <dc:creator>P V S Phaneendra</dc:creator>
  <dc:description/>
  <cp:keywords>CTPClassification=CTP_IC:VisualMarkings=</cp:keywords>
  <dc:language>en-US</dc:language>
  <cp:lastModifiedBy>Wieman, Trevor</cp:lastModifiedBy>
  <cp:lastPrinted>2017-02-05T20:28:14Z</cp:lastPrinted>
  <dcterms:modified xsi:type="dcterms:W3CDTF">2017-12-16T22:24:22Z</dcterms:modified>
  <cp:revision>25</cp:revision>
  <dc:subject/>
  <dc:title>ex11_Searching_and_Directly_Associating_Parameter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6 22:24:21Z</vt:lpwstr>
  </property>
  <property fmtid="{D5CDD505-2E9C-101B-9397-08002B2CF9AE}" pid="5" name="TitusGUID">
    <vt:lpwstr>3cb855b7-0950-486a-ab41-5d5a221903ba</vt:lpwstr>
  </property>
</Properties>
</file>