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D76C-9CAF-4271-A51E-3640DF317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BA78-F78C-4926-BB6D-34F41E168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4383-0A91-438B-9893-36AFE3F7B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1358-BF8D-42EF-A3C1-663F19F39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23BD-AF3F-41E6-BE75-6B13FB137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ED621-4415-447B-B6DC-00791F5776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8A830-EFC0-40EF-B067-74C52F1503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BFA4F-1D8E-4B7E-9698-FD551C1C04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01288-F817-4E8F-A118-9F2C488F57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F876A-FBB0-4112-BEF2-2666634350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48E12-F663-4EF7-96DE-18FCD50862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1A1A4-9857-4C21-9FB4-ACB5B91949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14ADD-7F9A-4195-940B-61E8DFE86C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B6CE1-0695-4B65-9CAE-2FBB6A8B84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2B36B-9249-41F0-8EDB-15D2853FAD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B3144-6F24-4D68-8DC0-2703F5984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74EF8-C8CF-4392-948E-AB0EF2C5B9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478D-E1D6-4C61-8D37-779B73396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Jack Donovan</cp:lastModifiedBy>
  <dcterms:modified xsi:type="dcterms:W3CDTF">2009-06-25T22:11:39Z</dcterms:modified>
  <cp:revision>84</cp:revision>
  <dc:subject/>
  <dc:title>AT Basic System Example</dc:title>
</cp:coreProperties>
</file>