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EC52-B686-467C-8F97-6D99BC368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B2AA6-4B21-4617-9BBD-96F8204A46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19317-32C7-4DDB-82EC-5A6EAB08B2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33D6E-447A-4A73-B696-1A1462B92E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84556-FDA3-4D06-9969-EA348B7E94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F4AC0-58B5-46F3-B570-FECB8539E9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286DB-D214-4DA7-A95B-3BC66335EF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81DD7-5F38-4B49-91AA-8B1324995D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584C3-957D-438A-B5AB-F917DB382C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BEE03-43A7-496A-9545-F2C7E878D9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E92C5-F370-4665-8C96-4475A6CB58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82F11-66A8-416F-91E5-277FD54CA2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F52AD-7501-41DF-919C-049FC2DBAA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2ECF-87BE-49CA-BFBC-70BF763FF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59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3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6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0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4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7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 </cp:lastModifiedBy>
  <dcterms:modified xsi:type="dcterms:W3CDTF">2009-02-07T17:01:47Z</dcterms:modified>
  <cp:revision>62</cp:revision>
  <dc:subject/>
  <dc:title>TLM2</dc:title>
</cp:coreProperties>
</file>