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81F83-408D-4DE9-899D-668E303EE4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BAE6E-258C-4740-9C5D-D70524776C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96E5D-40E0-444C-A7A6-F4D385CD29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B193F-EE46-4046-A1E5-8494983D1A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F02AE-CFE5-4542-869F-C6386B93DD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0DB60-72D1-4DB7-B311-1E4E27201F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8E301-92F0-49C9-9C7C-4969FF4143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ACE47-55B7-4EE3-9742-19AB00CC3A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8F866-6ACD-43D2-86B5-0E73A90B69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01890-D2B9-4417-A614-AD4E8917D3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249A4-982B-40B0-9683-C74371CA84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AD6F0-4141-4226-A6F9-1F8862AE2C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302AC-9075-42C5-BC34-F30F0FAA0F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3E245-FE31-4228-8D43-39EFC80012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0D555-C4BA-44FA-9090-EA2F6C9535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3B31D-FA14-4268-806E-4D5F19703D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A5449-F3F3-45FB-8231-CD36EE8524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0AA6B-1896-4686-A0B9-797880A149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Jack Donovan</cp:lastModifiedBy>
  <cp:lastPrinted>2008-06-04T21:47:01Z</cp:lastPrinted>
  <dcterms:modified xsi:type="dcterms:W3CDTF">2008-06-05T12:39:23Z</dcterms:modified>
  <cp:revision>85</cp:revision>
  <dc:subject/>
  <dc:title>AT Basic System Example</dc:title>
</cp:coreProperties>
</file>