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7D415-66D5-4FFA-A972-7B08F1BEC7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E0C8A-2B09-4603-B5C7-D1C9032440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C0A2B-516B-484D-80BC-14330D139D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29A7A-B3CB-4B9B-94D6-8F77F9E728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5BDA0-93BA-4529-A53A-F457134FDA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ECA80-0115-4AAD-85F6-D85CEE88E2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F90B9-A5B4-4492-8A62-EEA24F64EE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D130B-F925-4A56-89FD-16E7E85A97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27669-574B-419B-B2F8-0E74D89977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3F8D3-6972-42DD-A278-9E7FF20844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14329-8BD6-4492-87CB-C8CEC49F18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E3B03-257C-412E-940E-251713C3BD5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E7FB2-F411-43B0-B251-6D9232E01B1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AB8EA-EAFF-4B88-8778-C85FE882724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81942-4710-48D1-B899-0155E2592C6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8092F-AE52-4117-B469-092E589CD9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9481C-A7FA-47A6-9A91-FA216380D17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1D99F-D26A-4E42-A87D-34A08ED6FD3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2FA4B-CCBC-48BF-B049-EB5E5C06BE5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3BE22-F30F-428D-A14D-403E450DB83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51756-FD12-4D5C-8327-A04A18F792D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BE444-EF63-4DF6-B141-3BBD9E792A8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C36E2-0414-4FAE-A058-4F838B08CEE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D7012-F664-43E4-9102-298BBAE718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C2C66-CB14-42B9-868D-3D4CD63C89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2B154-16D1-47A1-BC70-A454ACDC98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EED8D-38C5-47B6-B436-895F23791E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C46D6-4723-42B8-8BB6-6CFAA42C95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73F62-EF15-4BB8-8373-71F4AA4B8D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F584B-53F4-42D2-BB88-38BC165829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E1762-C538-43BE-9E10-88229939B9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8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8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B7B89-45F2-4A11-BDEE-A942E130AC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AE2FB-B87A-443A-9D79-57968B181F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FF5B4-EA82-4A65-984D-35BE0037FE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D7F26-17F1-43CB-B63D-C3CBC5E850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94E68-DAF2-4003-B8FA-1D0F88444E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4229D-FA1B-4405-9796-DDA0CCA6F0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792DE-4C49-40A6-B477-48EB6C2B95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D72E6-06C0-487B-8D82-321890D562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4A97B-449C-473D-86D1-BD91C67EDE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8A5A1-108A-4101-A7FE-B1EC20545C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AFB13-85F0-4AB2-BF65-0118073F68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04763-1993-4A2C-BAB1-4DBE2C3198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2BF56-DEF1-4938-9FB3-D60F1B9ED0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9520" y="928800"/>
            <a:ext cx="39038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tra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E4275-5839-4339-94F5-85A238A60A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 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6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8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49385-2CBB-4C7A-B4B3-FF92141D57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9C466-E0ED-45CB-B4A1-35CE4138EE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51AE1-8C21-4341-B288-AEC9A228C0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65AD3-2C93-4557-A0B6-819E7F4AFE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D1DB0-0F9C-4D2F-9CAD-68AF6DDB31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9B6EA-61F7-46D4-A89B-7E11CC4946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C8F25-B8B5-47DE-B2B9-332BB86880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D83DF-002B-40F2-982D-B3D9B701C1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6ACA9-EFFD-4DDD-9597-BDB71E463F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A2C00-567E-411A-9F81-2D696F4478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9FD6B-6A20-4414-B98B-CD8F432D3B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8BEB3-AD24-4533-817A-0F009D4426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648000" y="4616280"/>
            <a:ext cx="2020320" cy="736200"/>
            <a:chOff x="648000" y="4616280"/>
            <a:chExt cx="2020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648000" y="5045400"/>
              <a:ext cx="2020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u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6880" y="4616280"/>
              <a:ext cx="1056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u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14D07-2462-4B9C-ACA5-8C9BD0EFFF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E7D85-6A9C-4BDB-A16A-EAE446EF91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34E09-286E-4248-BC55-C610DA430D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08A4F-BA73-4FF2-961F-8FEA3EFF71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DB6EF-5474-42C7-8A78-8110BADA6F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480"/>
            <a:chOff x="3665520" y="5286240"/>
            <a:chExt cx="4780080" cy="40248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016600" y="538164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3A7F0-1D37-42D7-BA5C-AC327DB11E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423680" y="4519440"/>
              <a:ext cx="322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6789A-E846-4573-8A17-A8153E1AF3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EFDE7-8EBC-4487-B736-BE6150192E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B93F1-9F20-4DFC-8CB0-278423D67C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4B10E-1EA7-44B8-B777-A129E27025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8C3E6-84CF-43D1-A2BF-2C73D24A8F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6DA12-3170-44B9-AF51-085B994155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8D5FC-D907-447B-8BFB-E460D4657F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28485-BE22-46A6-8A8C-CD511FE8AB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F6E86-A62E-44F8-B8C0-02F9185F7A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0A20D-BFEE-4047-8CD3-882EB858F5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C5F16-DED3-4FB7-AB39-D79F1A7AF7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FD653-BC9A-4E0F-9F10-D652192C67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9326C-9DE9-4D53-8FC9-3D5DD143FA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A584B-B749-4F27-9BBF-B051D609E0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3677E-A412-4165-804B-3BC4CA3069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F1DA3-BF26-4FA6-B9DC-E99BCC9BB7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82AD8-EF54-4D7A-A980-A94DF91606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217E8-7385-4D94-BEF4-4F5C2F1410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987A2-9B49-429B-9EC3-72C79762C7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EABC3-CE20-48B1-AC9F-C542CC508C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94B13-AFE4-4376-9AED-09F1371FBF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B49D2-123D-42D4-ABCA-E4D512F0E6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C8AC9-EF58-4C44-B116-7398B6FC58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B8238-B651-44A8-9AB4-EC168F1412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A3B9C-6416-400F-9F1D-96FF8640C7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F7D88-E5CE-494B-B0CC-4A40D542FD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71BEA-20B1-4097-80E7-7416EAC952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DD31D-1F78-4969-AC7E-451E0BBB78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E7F2F-F6A7-4ADF-BE78-CB615E7DD7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13E02-AF28-4620-9647-43CA32820C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A71D0-F31F-436A-911A-53F327BBE5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into(tlm_generic_payload&amp; other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6881B-07B7-4F24-9F35-8C1E5C0EB4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FEA80-E395-4F47-9B99-A2BB535086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A6896-C383-4908-8770-2D769C3F6A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28D3C-95C1-4DFA-8433-128F394AC2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008F7-58AC-43F7-9F41-2E3717FFD4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929E4-3968-45D9-90B2-731A0D3B7F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62378-0F5A-4054-9940-1E06BE5A1E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B7C32-562D-4302-BC57-2A3CB8DB6A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E4D6C-A86C-4630-85C7-C010BB276B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B77DF-EB6B-4443-8BEC-2AF18E93A5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0E8B5-41B4-4985-8E86-48EB6F4262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B771D-46C4-4AA9-8997-FC09A016A4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D1DC5-EEEA-4035-BDF3-22BD1E54FD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AD137-C3B8-4152-B6A4-B1567E996B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17398-7D4E-4C9F-9E6B-246CF66FCD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304920" y="1279440"/>
            <a:ext cx="8510400" cy="41576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70747-D3DF-4FE6-8792-A91AB20A09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64292-0907-436E-A526-2152B2E951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0B37F-B496-46D9-BC74-F159A63D8B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392040" y="857160"/>
            <a:ext cx="652104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new tlm_generic_payload( mem_mgr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E69A5-447B-4940-937F-6F9A3B13B7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9E4BF-54A5-4114-915A-3E700978FB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4BFF5-CE09-4CD4-AC3B-15564D6142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B9935-3B73-4082-8CC5-C2682AD975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40919-4EAE-472F-8036-98A117A101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ECA7D-6061-4A36-A22C-0E2069B7EA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AA24A-9C1F-4606-80C0-0D2635A1B5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2C4D0-E416-4052-8B29-833F855E18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AC030-6BBA-4E1C-A576-5B5C9A091C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10549-E5AB-4558-B7F6-8E235AB4A2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A796D-2099-4373-ACC9-05ACCF8EA8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58EC0-182C-429E-9C0A-CF5623BD5B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8E521-0D4F-4F50-99EF-A2A4D641C3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A436B-619B-4416-B9C9-32C94731DB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9D44D-1459-44E3-91C9-C1100B9EB9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9E3DF-1988-44D1-A6B0-1180064C89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CCB68-139F-4C74-AEA8-6BBAC32496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3ACFC-69FB-43FD-AE4C-42E4BFE107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82629-91D1-43F5-AA2A-D124358C86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 </cp:lastModifiedBy>
  <cp:lastPrinted>2002-03-05T00:56:29Z</cp:lastPrinted>
  <dcterms:modified xsi:type="dcterms:W3CDTF">2008-06-06T08:52:13Z</dcterms:modified>
  <cp:revision>1580</cp:revision>
  <dc:subject/>
  <dc:title>TLM WG Status 070327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710917829</vt:r8>
  </property>
  <property fmtid="{D5CDD505-2E9C-101B-9397-08002B2CF9AE}" pid="3" name="_AuthorEmail">
    <vt:lpwstr>bart@CoWare.com</vt:lpwstr>
  </property>
  <property fmtid="{D5CDD505-2E9C-101B-9397-08002B2CF9AE}" pid="4" name="_AuthorEmailDisplayName">
    <vt:lpwstr>Bart Vanthournout</vt:lpwstr>
  </property>
  <property fmtid="{D5CDD505-2E9C-101B-9397-08002B2CF9AE}" pid="5" name="_EmailSubject">
    <vt:lpwstr>TLM-2.0 Presentation ja6.ppt</vt:lpwstr>
  </property>
</Properties>
</file>