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A47E-943E-40A6-9837-37D8E28FF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DF4E-8077-4B98-84FF-8ACD8CD66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A36B-9729-4196-BC2C-1CF21F903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B31A-1AAC-46A7-8965-8380FCE95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A410-E649-4497-A2B1-4FAEC1F75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AC8FF-D098-4D29-8F68-F4C9A0E94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E9408-D290-4DEE-93E8-F338A34E8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2C6C1-61BE-4AA8-A6F1-FF7A97DF8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01E3D-0138-4026-831B-D98738B8BC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19AAB-45DE-4B4E-90FC-CB1C47FDA1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EF30B-0DF1-4650-9569-6B9DA3E0B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4EA67-CE93-4ECD-A2DE-891FD54FBB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C2F8-BD4A-4FA8-89EE-96DFE4671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86D9-C296-4903-ABE7-526842255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18490-0CDB-4A56-8921-DEBF9CE23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E621-C5C0-46B3-9FBA-30B6F18CC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B7413-4E21-483D-89E1-20CF7C160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5C3B-0ABD-43A6-9719-E34E14EFE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3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4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5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6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7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8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0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1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2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3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4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5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7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9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1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4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5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6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8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9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1" name="AutoShape 13"/>
            <p:cNvCxnSpPr>
              <a:stCxn id="312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3" name="AutoShape 17"/>
            <p:cNvCxnSpPr>
              <a:endCxn id="314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7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8" name="AutoShape 51"/>
            <p:cNvCxnSpPr>
              <a:stCxn id="317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9" name="AutoShape 52"/>
            <p:cNvCxnSpPr>
              <a:stCxn id="317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0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4"/>
            <p:cNvCxnSpPr>
              <a:stCxn id="320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5"/>
            <p:cNvCxnSpPr>
              <a:stCxn id="320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3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4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6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8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0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2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6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Rectangle 1028"/>
          <p:cNvSpPr/>
          <p:nvPr/>
        </p:nvSpPr>
        <p:spPr>
          <a:xfrm>
            <a:off x="1072800" y="1027080"/>
            <a:ext cx="47494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3"/>
          <p:cNvSpPr/>
          <p:nvPr/>
        </p:nvSpPr>
        <p:spPr>
          <a:xfrm>
            <a:off x="6502320" y="2324160"/>
            <a:ext cx="1917720" cy="482400"/>
          </a:xfrm>
          <a:prstGeom prst="wedgeRoundRectCallout">
            <a:avLst>
              <a:gd name="adj1" fmla="val -156416"/>
              <a:gd name="adj2" fmla="val 8856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5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6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7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8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9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0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4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5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6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7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1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3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6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7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8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0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2" name="AutoShape 156"/>
          <p:cNvCxnSpPr>
            <a:stCxn id="143" idx="3"/>
            <a:endCxn id="144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5" name="AutoShape 157"/>
          <p:cNvCxnSpPr>
            <a:stCxn id="146" idx="2"/>
            <a:endCxn id="147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8" name="AutoShape 158"/>
          <p:cNvCxnSpPr>
            <a:stCxn id="146" idx="0"/>
            <a:endCxn id="149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0" name="AutoShape 159"/>
          <p:cNvCxnSpPr>
            <a:stCxn id="151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2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4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1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5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3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73"/>
          <p:cNvCxnSpPr>
            <a:stCxn id="158" idx="2"/>
            <a:endCxn id="157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0" name="AutoShape 174"/>
          <p:cNvCxnSpPr>
            <a:stCxn id="158" idx="0"/>
            <a:endCxn id="161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1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6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7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8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9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0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4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6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7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1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2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4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5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6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7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8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1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2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3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4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6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0" name="AutoShape 80"/>
          <p:cNvCxnSpPr>
            <a:stCxn id="198" idx="3"/>
            <a:endCxn id="189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81"/>
          <p:cNvCxnSpPr>
            <a:stCxn id="196" idx="3"/>
            <a:endCxn id="189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AutoShape 82"/>
          <p:cNvCxnSpPr>
            <a:stCxn id="189" idx="3"/>
            <a:endCxn id="192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3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4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5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6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7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9" name="AutoShape 90"/>
          <p:cNvCxnSpPr>
            <a:stCxn id="198" idx="1"/>
            <a:endCxn id="205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0" name="AutoShape 91"/>
          <p:cNvCxnSpPr>
            <a:stCxn id="192" idx="1"/>
            <a:endCxn id="208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2"/>
          <p:cNvCxnSpPr>
            <a:stCxn id="198" idx="1"/>
            <a:endCxn id="208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3"/>
          <p:cNvCxnSpPr>
            <a:stCxn id="196" idx="1"/>
            <a:endCxn id="208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94"/>
          <p:cNvCxnSpPr>
            <a:stCxn id="198" idx="2"/>
            <a:endCxn id="199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5"/>
          <p:cNvCxnSpPr>
            <a:stCxn id="199" idx="2"/>
            <a:endCxn id="192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6"/>
          <p:cNvCxnSpPr>
            <a:stCxn id="192" idx="2"/>
            <a:endCxn id="197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7"/>
          <p:cNvCxnSpPr>
            <a:stCxn id="197" idx="2"/>
            <a:endCxn id="196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2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3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4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5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6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0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1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2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3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7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8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9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2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3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4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6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8" name="AutoShape 30"/>
          <p:cNvCxnSpPr>
            <a:stCxn id="259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0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2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3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6" name="AutoShape 40"/>
          <p:cNvCxnSpPr>
            <a:stCxn id="256" idx="1"/>
            <a:endCxn id="260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41"/>
          <p:cNvCxnSpPr>
            <a:stCxn id="268" idx="3"/>
            <a:endCxn id="264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9" name="AutoShape 42"/>
          <p:cNvCxnSpPr>
            <a:stCxn id="263" idx="1"/>
            <a:endCxn id="259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40"/>
          <p:cNvCxnSpPr>
            <a:stCxn id="265" idx="2"/>
            <a:endCxn id="263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1073"/>
          <p:cNvCxnSpPr>
            <a:stCxn id="260" idx="2"/>
            <a:endCxn id="275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1074"/>
          <p:cNvCxnSpPr>
            <a:stCxn id="275" idx="2"/>
            <a:endCxn id="268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AutoShape 1075"/>
          <p:cNvCxnSpPr>
            <a:stCxn id="268" idx="2"/>
            <a:endCxn id="265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AutoShape 1076"/>
          <p:cNvCxnSpPr>
            <a:stCxn id="260" idx="3"/>
            <a:endCxn id="263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0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0:27:08Z</dcterms:created>
  <dc:creator>Anna Keist, Bill Bunton, Charles Wilson</dc:creator>
  <dc:description/>
  <cp:keywords/>
  <dc:language>en-US</dc:language>
  <cp:lastModifiedBy>Charles Wilson</cp:lastModifiedBy>
  <cp:lastPrinted>2008-06-04T21:18:56Z</cp:lastPrinted>
  <dcterms:modified xsi:type="dcterms:W3CDTF">2008-06-05T21:04:24Z</dcterms:modified>
  <cp:revision>85</cp:revision>
  <dc:subject/>
  <dc:title>AT Basic System Example</dc:title>
</cp:coreProperties>
</file>