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E2C9-C057-468E-93CC-33D89FD24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3304-B502-4D9A-BA18-E5493EDA0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8CF7-6DC4-4CEF-A660-539D1FF62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08ED-0139-48EC-A476-1A7C50584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4932-9640-4A0E-BCC6-173FBE878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710C-6172-49AE-988B-9089E4A60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226E0-731A-43B8-A16D-3609683A6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DD34-5CFA-4108-8532-ACF6524C7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B8E9-5B66-4F70-AAE0-ED9678257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CC38-7CE9-4652-9057-DE6FCF63D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74E8-EBAF-4306-A7CF-D6D4A05A7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C7FB-C84E-43D4-91B3-0CEA39E9F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E53B-4077-4B5F-98AA-05D828B7C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7F40-301B-4E35-B4F6-0832998BA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B883-2A60-4027-8028-D1D9DFBF4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E494-F43A-4DE5-9EA7-753B875CE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246D-0F1A-4261-8DA0-32B20C876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B66D-BADB-47B0-AC9C-6A63E0073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-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1000" y="1027080"/>
            <a:ext cx="4937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2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3200" y="1647720"/>
            <a:ext cx="5085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8-06-04T21:38:24Z</dcterms:modified>
  <cp:revision>84</cp:revision>
  <dc:subject/>
  <dc:title>AT Basic System Example</dc:title>
</cp:coreProperties>
</file>